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A4AD-DE9C-4274-8196-516FCD36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D09-E467-46F2-AAC4-81A8406A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E461-1C39-42CA-BDC2-EC3CC7E7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6626-CFAF-42A0-A6C6-A2915994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EEB0-CDE6-4100-A922-15D83286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E241-6138-43AC-9CAD-33A6F973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F389-9B0E-46E6-BCB4-7F47F100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86E0-58CB-4FFC-8920-65A5C42A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A0EB-7BCC-4FA3-A878-2AF8CE53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23800" y="259920"/>
            <a:ext cx="813420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D272-742F-4DFB-B675-328B86AF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EE4F-9780-41D9-A4A4-2D7F4858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5730-F485-432A-8023-67B45170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6EEE-D70B-40E6-9F23-31868540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509E-04A1-4701-8374-CD0B4B35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6B36-6BB8-4366-B1B1-C8849FC5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D3F3-108E-4062-91A9-36AD7F39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EC9C-C96B-4C88-9D06-4F029D43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467A-0CAD-4204-8995-14224406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22D8-340A-4717-B5BA-1CC20AD3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E9F9-A905-4876-9DA8-D896AC86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23800" y="259920"/>
            <a:ext cx="813420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E228-3426-4E0B-A06C-9152F306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A6BE-D1C1-45A3-948F-8364BB53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7DDC-DCA3-4306-84BA-8285BFC2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78B4-BC17-44BF-8F95-354033BF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6120" cy="1484280"/>
            <a:chOff x="0" y="0"/>
            <a:chExt cx="9906120" cy="14842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352520" cy="1484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208160" y="0"/>
              <a:ext cx="8697960" cy="14842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128520" y="189000"/>
              <a:ext cx="1208160" cy="120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dimensionex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1B3ED02-9E6F-437D-A258-64DFF2CDE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6219720"/>
            <a:ext cx="9906120" cy="307080"/>
            <a:chOff x="0" y="6219720"/>
            <a:chExt cx="9906120" cy="307080"/>
          </a:xfrm>
        </p:grpSpPr>
        <p:sp>
          <p:nvSpPr>
            <p:cNvPr id="10" name=""/>
            <p:cNvSpPr/>
            <p:nvPr/>
          </p:nvSpPr>
          <p:spPr>
            <a:xfrm>
              <a:off x="0" y="6237360"/>
              <a:ext cx="990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41120" y="6219720"/>
              <a:ext cx="204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www.dimensionex.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E452A8D-2A29-4938-A294-91E95E3BF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761760" y="17521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745320" y="2046240"/>
          <a:ext cx="2855880" cy="25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45320" y="2046240"/>
                    <a:ext cx="285588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" name=""/>
          <p:cNvGrpSpPr/>
          <p:nvPr/>
        </p:nvGrpSpPr>
        <p:grpSpPr>
          <a:xfrm>
            <a:off x="0" y="0"/>
            <a:ext cx="9906120" cy="1484280"/>
            <a:chOff x="0" y="0"/>
            <a:chExt cx="9906120" cy="1484280"/>
          </a:xfrm>
        </p:grpSpPr>
        <p:sp>
          <p:nvSpPr>
            <p:cNvPr id="55" name=""/>
            <p:cNvSpPr/>
            <p:nvPr/>
          </p:nvSpPr>
          <p:spPr>
            <a:xfrm>
              <a:off x="0" y="0"/>
              <a:ext cx="1352520" cy="1484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08160" y="0"/>
              <a:ext cx="8697960" cy="14842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128520" y="189000"/>
              <a:ext cx="12081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0" y="6219720"/>
            <a:ext cx="9906120" cy="307080"/>
            <a:chOff x="0" y="6219720"/>
            <a:chExt cx="9906120" cy="307080"/>
          </a:xfrm>
        </p:grpSpPr>
        <p:sp>
          <p:nvSpPr>
            <p:cNvPr id="59" name=""/>
            <p:cNvSpPr/>
            <p:nvPr/>
          </p:nvSpPr>
          <p:spPr>
            <a:xfrm>
              <a:off x="0" y="6237360"/>
              <a:ext cx="990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1120" y="6219720"/>
              <a:ext cx="204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www.dimensionex.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tp://www.gamesclan.it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17521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 Black"/>
              </a:rPr>
              <a:t>3 – Your work goes live!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556236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-285840"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cheme: how it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Hotli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How to pub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edia formats and s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4920" y="5181480"/>
          <a:ext cx="1143000" cy="11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181480"/>
                    <a:ext cx="1143000" cy="11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539720" y="189000"/>
            <a:ext cx="836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SW Development Course</a:t>
            </a:r>
            <a:br>
              <a:rPr sz="3600"/>
            </a:br>
            <a:r>
              <a:rPr b="0" lang="it-IT" sz="2400" spc="-1" strike="noStrike">
                <a:solidFill>
                  <a:srgbClr val="000099"/>
                </a:solidFill>
                <a:latin typeface="Arial Black"/>
              </a:rPr>
              <a:t>Multiplayer Multimedia Apps on the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Architecture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1790640" y="1900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6" idx="2"/>
            <a:endCxn id="107" idx="0"/>
          </p:cNvCxnSpPr>
          <p:nvPr/>
        </p:nvCxnSpPr>
        <p:spPr>
          <a:xfrm rot="5400000">
            <a:off x="3161880" y="3733560"/>
            <a:ext cx="1067400" cy="6105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533520" y="2057400"/>
            <a:ext cx="1447200" cy="1569240"/>
            <a:chOff x="533520" y="2057400"/>
            <a:chExt cx="1447200" cy="156924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533520" y="2057400"/>
              <a:ext cx="1447200" cy="110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52680" y="3289320"/>
              <a:ext cx="6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empus Sans ITC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124080" y="1828800"/>
            <a:ext cx="1524240" cy="1676520"/>
            <a:chOff x="3124080" y="1828800"/>
            <a:chExt cx="1524240" cy="1676520"/>
          </a:xfrm>
        </p:grpSpPr>
        <p:sp>
          <p:nvSpPr>
            <p:cNvPr id="106" name=""/>
            <p:cNvSpPr/>
            <p:nvPr/>
          </p:nvSpPr>
          <p:spPr>
            <a:xfrm>
              <a:off x="3352680" y="2895480"/>
              <a:ext cx="1295640" cy="609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row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3124080" y="1828800"/>
              <a:ext cx="1274760" cy="12175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  <p:cxnSp>
        <p:nvCxnSpPr>
          <p:cNvPr id="113" name=""/>
          <p:cNvCxnSpPr>
            <a:stCxn id="109" idx="3"/>
            <a:endCxn id="112" idx="1"/>
          </p:cNvCxnSpPr>
          <p:nvPr/>
        </p:nvCxnSpPr>
        <p:spPr>
          <a:xfrm flipV="1">
            <a:off x="1980720" y="2437920"/>
            <a:ext cx="1143720" cy="17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14" name=""/>
          <p:cNvGrpSpPr/>
          <p:nvPr/>
        </p:nvGrpSpPr>
        <p:grpSpPr>
          <a:xfrm>
            <a:off x="6400800" y="4419720"/>
            <a:ext cx="2123640" cy="1942560"/>
            <a:chOff x="6400800" y="4419720"/>
            <a:chExt cx="2123640" cy="1942560"/>
          </a:xfrm>
        </p:grpSpPr>
        <p:sp>
          <p:nvSpPr>
            <p:cNvPr id="115" name=""/>
            <p:cNvSpPr/>
            <p:nvPr/>
          </p:nvSpPr>
          <p:spPr>
            <a:xfrm>
              <a:off x="6400800" y="4419720"/>
              <a:ext cx="1904760" cy="114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dia 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7543440" y="5257800"/>
              <a:ext cx="981000" cy="11044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17" name=""/>
          <p:cNvCxnSpPr/>
          <p:nvPr/>
        </p:nvCxnSpPr>
        <p:spPr>
          <a:xfrm flipV="1" rot="10800000">
            <a:off x="4342680" y="4990680"/>
            <a:ext cx="2057760" cy="153360"/>
          </a:xfrm>
          <a:prstGeom prst="curvedConnector5">
            <a:avLst>
              <a:gd name="adj1" fmla="val 49991"/>
              <a:gd name="adj2" fmla="val 49882"/>
              <a:gd name="adj3" fmla="val 49991"/>
            </a:avLst>
          </a:prstGeom>
          <a:ln w="28440">
            <a:solidFill>
              <a:srgbClr val="618ffd"/>
            </a:solidFill>
            <a:miter/>
            <a:tailEnd len="med" type="triangle" w="med"/>
          </a:ln>
        </p:spPr>
      </p:cxnSp>
      <p:grpSp>
        <p:nvGrpSpPr>
          <p:cNvPr id="118" name=""/>
          <p:cNvGrpSpPr/>
          <p:nvPr/>
        </p:nvGrpSpPr>
        <p:grpSpPr>
          <a:xfrm>
            <a:off x="7918920" y="1434960"/>
            <a:ext cx="1434600" cy="1090800"/>
            <a:chOff x="7918920" y="1434960"/>
            <a:chExt cx="1434600" cy="1090800"/>
          </a:xfrm>
        </p:grpSpPr>
        <p:grpSp>
          <p:nvGrpSpPr>
            <p:cNvPr id="119" name=""/>
            <p:cNvGrpSpPr/>
            <p:nvPr/>
          </p:nvGrpSpPr>
          <p:grpSpPr>
            <a:xfrm>
              <a:off x="8104680" y="2023920"/>
              <a:ext cx="742680" cy="501840"/>
              <a:chOff x="8104680" y="2023920"/>
              <a:chExt cx="742680" cy="501840"/>
            </a:xfrm>
          </p:grpSpPr>
          <p:sp>
            <p:nvSpPr>
              <p:cNvPr id="120" name=""/>
              <p:cNvSpPr/>
              <p:nvPr/>
            </p:nvSpPr>
            <p:spPr>
              <a:xfrm flipH="1">
                <a:off x="8104320" y="2028960"/>
                <a:ext cx="742680" cy="496800"/>
              </a:xfrm>
              <a:custGeom>
                <a:avLst/>
                <a:gdLst/>
                <a:ahLst/>
                <a:rect l="l" t="t" r="r" b="b"/>
                <a:pathLst>
                  <a:path w="1403" h="1256">
                    <a:moveTo>
                      <a:pt x="1403" y="1253"/>
                    </a:moveTo>
                    <a:lnTo>
                      <a:pt x="1403" y="604"/>
                    </a:lnTo>
                    <a:lnTo>
                      <a:pt x="1382" y="86"/>
                    </a:lnTo>
                    <a:lnTo>
                      <a:pt x="671" y="0"/>
                    </a:lnTo>
                    <a:lnTo>
                      <a:pt x="22" y="77"/>
                    </a:lnTo>
                    <a:lnTo>
                      <a:pt x="19" y="260"/>
                    </a:lnTo>
                    <a:lnTo>
                      <a:pt x="0" y="1248"/>
                    </a:lnTo>
                    <a:lnTo>
                      <a:pt x="144" y="1248"/>
                    </a:lnTo>
                    <a:lnTo>
                      <a:pt x="144" y="354"/>
                    </a:lnTo>
                    <a:lnTo>
                      <a:pt x="422" y="332"/>
                    </a:lnTo>
                    <a:lnTo>
                      <a:pt x="1272" y="332"/>
                    </a:lnTo>
                    <a:lnTo>
                      <a:pt x="1284" y="1256"/>
                    </a:lnTo>
                    <a:lnTo>
                      <a:pt x="1403" y="1253"/>
                    </a:lnTo>
                    <a:close/>
                  </a:path>
                </a:pathLst>
              </a:custGeom>
              <a:solidFill>
                <a:srgbClr val="000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8501760" y="2023920"/>
                <a:ext cx="288360" cy="127080"/>
              </a:xfrm>
              <a:custGeom>
                <a:avLst/>
                <a:gdLst/>
                <a:ahLst/>
                <a:rect l="l" t="t" r="r" b="b"/>
                <a:pathLst>
                  <a:path w="548" h="319">
                    <a:moveTo>
                      <a:pt x="102" y="62"/>
                    </a:moveTo>
                    <a:lnTo>
                      <a:pt x="175" y="50"/>
                    </a:lnTo>
                    <a:lnTo>
                      <a:pt x="242" y="0"/>
                    </a:lnTo>
                    <a:lnTo>
                      <a:pt x="313" y="75"/>
                    </a:lnTo>
                    <a:lnTo>
                      <a:pt x="533" y="221"/>
                    </a:lnTo>
                    <a:lnTo>
                      <a:pt x="548" y="275"/>
                    </a:lnTo>
                    <a:lnTo>
                      <a:pt x="421" y="319"/>
                    </a:lnTo>
                    <a:lnTo>
                      <a:pt x="0" y="99"/>
                    </a:lnTo>
                    <a:lnTo>
                      <a:pt x="102" y="62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7918920" y="1574640"/>
              <a:ext cx="693360" cy="747720"/>
              <a:chOff x="7918920" y="1574640"/>
              <a:chExt cx="693360" cy="74772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7918920" y="1574640"/>
                <a:ext cx="693360" cy="569880"/>
                <a:chOff x="7918920" y="1574640"/>
                <a:chExt cx="693360" cy="569880"/>
              </a:xfrm>
            </p:grpSpPr>
            <p:sp>
              <p:nvSpPr>
                <p:cNvPr id="124" name=""/>
                <p:cNvSpPr/>
                <p:nvPr/>
              </p:nvSpPr>
              <p:spPr>
                <a:xfrm flipH="1">
                  <a:off x="7918920" y="1574640"/>
                  <a:ext cx="693360" cy="569880"/>
                </a:xfrm>
                <a:custGeom>
                  <a:avLst/>
                  <a:gdLst/>
                  <a:ahLst/>
                  <a:rect l="l" t="t" r="r" b="b"/>
                  <a:pathLst>
                    <a:path w="1310" h="1436">
                      <a:moveTo>
                        <a:pt x="245" y="291"/>
                      </a:moveTo>
                      <a:lnTo>
                        <a:pt x="276" y="192"/>
                      </a:lnTo>
                      <a:lnTo>
                        <a:pt x="297" y="129"/>
                      </a:lnTo>
                      <a:lnTo>
                        <a:pt x="304" y="111"/>
                      </a:lnTo>
                      <a:lnTo>
                        <a:pt x="316" y="95"/>
                      </a:lnTo>
                      <a:lnTo>
                        <a:pt x="323" y="87"/>
                      </a:lnTo>
                      <a:lnTo>
                        <a:pt x="337" y="82"/>
                      </a:lnTo>
                      <a:lnTo>
                        <a:pt x="502" y="47"/>
                      </a:lnTo>
                      <a:lnTo>
                        <a:pt x="681" y="13"/>
                      </a:lnTo>
                      <a:lnTo>
                        <a:pt x="841" y="0"/>
                      </a:lnTo>
                      <a:lnTo>
                        <a:pt x="933" y="0"/>
                      </a:lnTo>
                      <a:lnTo>
                        <a:pt x="1124" y="12"/>
                      </a:lnTo>
                      <a:lnTo>
                        <a:pt x="1262" y="18"/>
                      </a:lnTo>
                      <a:lnTo>
                        <a:pt x="1282" y="21"/>
                      </a:lnTo>
                      <a:lnTo>
                        <a:pt x="1295" y="27"/>
                      </a:lnTo>
                      <a:lnTo>
                        <a:pt x="1304" y="34"/>
                      </a:lnTo>
                      <a:lnTo>
                        <a:pt x="1310" y="44"/>
                      </a:lnTo>
                      <a:lnTo>
                        <a:pt x="1310" y="57"/>
                      </a:lnTo>
                      <a:lnTo>
                        <a:pt x="1303" y="96"/>
                      </a:lnTo>
                      <a:lnTo>
                        <a:pt x="1276" y="226"/>
                      </a:lnTo>
                      <a:lnTo>
                        <a:pt x="1256" y="322"/>
                      </a:lnTo>
                      <a:lnTo>
                        <a:pt x="1212" y="539"/>
                      </a:lnTo>
                      <a:lnTo>
                        <a:pt x="1183" y="673"/>
                      </a:lnTo>
                      <a:lnTo>
                        <a:pt x="1105" y="987"/>
                      </a:lnTo>
                      <a:lnTo>
                        <a:pt x="1030" y="1237"/>
                      </a:lnTo>
                      <a:lnTo>
                        <a:pt x="1015" y="1285"/>
                      </a:lnTo>
                      <a:lnTo>
                        <a:pt x="1007" y="1313"/>
                      </a:lnTo>
                      <a:lnTo>
                        <a:pt x="1000" y="1339"/>
                      </a:lnTo>
                      <a:lnTo>
                        <a:pt x="991" y="1354"/>
                      </a:lnTo>
                      <a:lnTo>
                        <a:pt x="978" y="1371"/>
                      </a:lnTo>
                      <a:lnTo>
                        <a:pt x="965" y="1378"/>
                      </a:lnTo>
                      <a:lnTo>
                        <a:pt x="940" y="1384"/>
                      </a:lnTo>
                      <a:lnTo>
                        <a:pt x="896" y="1388"/>
                      </a:lnTo>
                      <a:lnTo>
                        <a:pt x="821" y="1388"/>
                      </a:lnTo>
                      <a:lnTo>
                        <a:pt x="758" y="1396"/>
                      </a:lnTo>
                      <a:lnTo>
                        <a:pt x="675" y="1410"/>
                      </a:lnTo>
                      <a:lnTo>
                        <a:pt x="589" y="1426"/>
                      </a:lnTo>
                      <a:lnTo>
                        <a:pt x="531" y="1436"/>
                      </a:lnTo>
                      <a:lnTo>
                        <a:pt x="459" y="1436"/>
                      </a:lnTo>
                      <a:lnTo>
                        <a:pt x="444" y="1426"/>
                      </a:lnTo>
                      <a:lnTo>
                        <a:pt x="40" y="1140"/>
                      </a:lnTo>
                      <a:lnTo>
                        <a:pt x="20" y="1122"/>
                      </a:lnTo>
                      <a:lnTo>
                        <a:pt x="6" y="1102"/>
                      </a:lnTo>
                      <a:lnTo>
                        <a:pt x="0" y="1080"/>
                      </a:lnTo>
                      <a:lnTo>
                        <a:pt x="0" y="1054"/>
                      </a:lnTo>
                      <a:lnTo>
                        <a:pt x="6" y="1031"/>
                      </a:lnTo>
                      <a:lnTo>
                        <a:pt x="121" y="677"/>
                      </a:lnTo>
                      <a:lnTo>
                        <a:pt x="194" y="454"/>
                      </a:lnTo>
                      <a:lnTo>
                        <a:pt x="245" y="29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>
                  <a:off x="8163720" y="1631880"/>
                  <a:ext cx="412560" cy="433440"/>
                </a:xfrm>
                <a:custGeom>
                  <a:avLst/>
                  <a:gdLst/>
                  <a:ahLst/>
                  <a:rect l="l" t="t" r="r" b="b"/>
                  <a:pathLst>
                    <a:path w="778" h="1090">
                      <a:moveTo>
                        <a:pt x="177" y="326"/>
                      </a:moveTo>
                      <a:lnTo>
                        <a:pt x="234" y="168"/>
                      </a:lnTo>
                      <a:lnTo>
                        <a:pt x="283" y="29"/>
                      </a:lnTo>
                      <a:lnTo>
                        <a:pt x="291" y="22"/>
                      </a:lnTo>
                      <a:lnTo>
                        <a:pt x="299" y="20"/>
                      </a:lnTo>
                      <a:lnTo>
                        <a:pt x="316" y="18"/>
                      </a:lnTo>
                      <a:lnTo>
                        <a:pt x="539" y="1"/>
                      </a:lnTo>
                      <a:lnTo>
                        <a:pt x="756" y="0"/>
                      </a:lnTo>
                      <a:lnTo>
                        <a:pt x="769" y="3"/>
                      </a:lnTo>
                      <a:lnTo>
                        <a:pt x="774" y="7"/>
                      </a:lnTo>
                      <a:lnTo>
                        <a:pt x="778" y="20"/>
                      </a:lnTo>
                      <a:lnTo>
                        <a:pt x="762" y="118"/>
                      </a:lnTo>
                      <a:lnTo>
                        <a:pt x="728" y="204"/>
                      </a:lnTo>
                      <a:lnTo>
                        <a:pt x="670" y="361"/>
                      </a:lnTo>
                      <a:lnTo>
                        <a:pt x="559" y="630"/>
                      </a:lnTo>
                      <a:lnTo>
                        <a:pt x="463" y="864"/>
                      </a:lnTo>
                      <a:lnTo>
                        <a:pt x="438" y="953"/>
                      </a:lnTo>
                      <a:lnTo>
                        <a:pt x="424" y="1012"/>
                      </a:lnTo>
                      <a:lnTo>
                        <a:pt x="408" y="1046"/>
                      </a:lnTo>
                      <a:lnTo>
                        <a:pt x="393" y="1071"/>
                      </a:lnTo>
                      <a:lnTo>
                        <a:pt x="384" y="1083"/>
                      </a:lnTo>
                      <a:lnTo>
                        <a:pt x="375" y="1089"/>
                      </a:lnTo>
                      <a:lnTo>
                        <a:pt x="362" y="1090"/>
                      </a:lnTo>
                      <a:lnTo>
                        <a:pt x="349" y="1087"/>
                      </a:lnTo>
                      <a:lnTo>
                        <a:pt x="327" y="1074"/>
                      </a:lnTo>
                      <a:lnTo>
                        <a:pt x="303" y="1055"/>
                      </a:lnTo>
                      <a:lnTo>
                        <a:pt x="281" y="1033"/>
                      </a:lnTo>
                      <a:lnTo>
                        <a:pt x="254" y="1012"/>
                      </a:lnTo>
                      <a:lnTo>
                        <a:pt x="230" y="993"/>
                      </a:lnTo>
                      <a:lnTo>
                        <a:pt x="11" y="897"/>
                      </a:lnTo>
                      <a:lnTo>
                        <a:pt x="3" y="890"/>
                      </a:lnTo>
                      <a:lnTo>
                        <a:pt x="0" y="881"/>
                      </a:lnTo>
                      <a:lnTo>
                        <a:pt x="2" y="868"/>
                      </a:lnTo>
                      <a:lnTo>
                        <a:pt x="6" y="857"/>
                      </a:lnTo>
                      <a:lnTo>
                        <a:pt x="177" y="326"/>
                      </a:lnTo>
                      <a:close/>
                    </a:path>
                  </a:pathLst>
                </a:custGeom>
                <a:solidFill>
                  <a:srgbClr val="005f5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8005320" y="2076480"/>
                <a:ext cx="109080" cy="245880"/>
                <a:chOff x="8005320" y="2076480"/>
                <a:chExt cx="109080" cy="245880"/>
              </a:xfrm>
            </p:grpSpPr>
            <p:sp>
              <p:nvSpPr>
                <p:cNvPr id="127" name=""/>
                <p:cNvSpPr/>
                <p:nvPr/>
              </p:nvSpPr>
              <p:spPr>
                <a:xfrm flipH="1">
                  <a:off x="8004960" y="2085840"/>
                  <a:ext cx="99720" cy="236520"/>
                </a:xfrm>
                <a:custGeom>
                  <a:avLst/>
                  <a:gdLst/>
                  <a:ahLst/>
                  <a:rect l="l" t="t" r="r" b="b"/>
                  <a:pathLst>
                    <a:path w="190" h="595">
                      <a:moveTo>
                        <a:pt x="0" y="0"/>
                      </a:moveTo>
                      <a:lnTo>
                        <a:pt x="6" y="39"/>
                      </a:lnTo>
                      <a:lnTo>
                        <a:pt x="15" y="69"/>
                      </a:lnTo>
                      <a:lnTo>
                        <a:pt x="31" y="96"/>
                      </a:lnTo>
                      <a:lnTo>
                        <a:pt x="56" y="113"/>
                      </a:lnTo>
                      <a:lnTo>
                        <a:pt x="88" y="126"/>
                      </a:lnTo>
                      <a:lnTo>
                        <a:pt x="112" y="149"/>
                      </a:lnTo>
                      <a:lnTo>
                        <a:pt x="132" y="178"/>
                      </a:lnTo>
                      <a:lnTo>
                        <a:pt x="153" y="226"/>
                      </a:lnTo>
                      <a:lnTo>
                        <a:pt x="160" y="266"/>
                      </a:lnTo>
                      <a:lnTo>
                        <a:pt x="154" y="297"/>
                      </a:lnTo>
                      <a:lnTo>
                        <a:pt x="132" y="326"/>
                      </a:lnTo>
                      <a:lnTo>
                        <a:pt x="113" y="352"/>
                      </a:lnTo>
                      <a:lnTo>
                        <a:pt x="100" y="379"/>
                      </a:lnTo>
                      <a:lnTo>
                        <a:pt x="90" y="414"/>
                      </a:lnTo>
                      <a:lnTo>
                        <a:pt x="85" y="455"/>
                      </a:lnTo>
                      <a:lnTo>
                        <a:pt x="95" y="491"/>
                      </a:lnTo>
                      <a:lnTo>
                        <a:pt x="108" y="516"/>
                      </a:lnTo>
                      <a:lnTo>
                        <a:pt x="137" y="548"/>
                      </a:lnTo>
                      <a:lnTo>
                        <a:pt x="160" y="570"/>
                      </a:lnTo>
                      <a:lnTo>
                        <a:pt x="190" y="595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>
                  <a:off x="8095680" y="2076480"/>
                  <a:ext cx="18720" cy="1440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8561880" y="1434960"/>
              <a:ext cx="791640" cy="1076400"/>
              <a:chOff x="8561880" y="1434960"/>
              <a:chExt cx="791640" cy="1076400"/>
            </a:xfrm>
          </p:grpSpPr>
          <p:sp>
            <p:nvSpPr>
              <p:cNvPr id="130" name=""/>
              <p:cNvSpPr/>
              <p:nvPr/>
            </p:nvSpPr>
            <p:spPr>
              <a:xfrm flipH="1">
                <a:off x="8893440" y="1920960"/>
                <a:ext cx="460080" cy="590400"/>
              </a:xfrm>
              <a:custGeom>
                <a:avLst/>
                <a:gdLst/>
                <a:ahLst/>
                <a:rect l="l" t="t" r="r" b="b"/>
                <a:pathLst>
                  <a:path w="869" h="1488">
                    <a:moveTo>
                      <a:pt x="869" y="700"/>
                    </a:moveTo>
                    <a:lnTo>
                      <a:pt x="622" y="550"/>
                    </a:lnTo>
                    <a:lnTo>
                      <a:pt x="349" y="28"/>
                    </a:lnTo>
                    <a:lnTo>
                      <a:pt x="337" y="19"/>
                    </a:lnTo>
                    <a:lnTo>
                      <a:pt x="318" y="9"/>
                    </a:lnTo>
                    <a:lnTo>
                      <a:pt x="296" y="4"/>
                    </a:lnTo>
                    <a:lnTo>
                      <a:pt x="267" y="0"/>
                    </a:lnTo>
                    <a:lnTo>
                      <a:pt x="240" y="4"/>
                    </a:lnTo>
                    <a:lnTo>
                      <a:pt x="215" y="14"/>
                    </a:lnTo>
                    <a:lnTo>
                      <a:pt x="186" y="28"/>
                    </a:lnTo>
                    <a:lnTo>
                      <a:pt x="149" y="49"/>
                    </a:lnTo>
                    <a:lnTo>
                      <a:pt x="117" y="71"/>
                    </a:lnTo>
                    <a:lnTo>
                      <a:pt x="91" y="92"/>
                    </a:lnTo>
                    <a:lnTo>
                      <a:pt x="70" y="113"/>
                    </a:lnTo>
                    <a:lnTo>
                      <a:pt x="51" y="138"/>
                    </a:lnTo>
                    <a:lnTo>
                      <a:pt x="28" y="174"/>
                    </a:lnTo>
                    <a:lnTo>
                      <a:pt x="15" y="201"/>
                    </a:lnTo>
                    <a:lnTo>
                      <a:pt x="2" y="239"/>
                    </a:lnTo>
                    <a:lnTo>
                      <a:pt x="0" y="282"/>
                    </a:lnTo>
                    <a:lnTo>
                      <a:pt x="0" y="346"/>
                    </a:lnTo>
                    <a:lnTo>
                      <a:pt x="7" y="420"/>
                    </a:lnTo>
                    <a:lnTo>
                      <a:pt x="21" y="489"/>
                    </a:lnTo>
                    <a:lnTo>
                      <a:pt x="44" y="572"/>
                    </a:lnTo>
                    <a:lnTo>
                      <a:pt x="68" y="642"/>
                    </a:lnTo>
                    <a:lnTo>
                      <a:pt x="88" y="689"/>
                    </a:lnTo>
                    <a:lnTo>
                      <a:pt x="118" y="738"/>
                    </a:lnTo>
                    <a:lnTo>
                      <a:pt x="141" y="772"/>
                    </a:lnTo>
                    <a:lnTo>
                      <a:pt x="167" y="811"/>
                    </a:lnTo>
                    <a:lnTo>
                      <a:pt x="197" y="851"/>
                    </a:lnTo>
                    <a:lnTo>
                      <a:pt x="225" y="874"/>
                    </a:lnTo>
                    <a:lnTo>
                      <a:pt x="339" y="860"/>
                    </a:lnTo>
                    <a:lnTo>
                      <a:pt x="426" y="829"/>
                    </a:lnTo>
                    <a:lnTo>
                      <a:pt x="481" y="846"/>
                    </a:lnTo>
                    <a:lnTo>
                      <a:pt x="609" y="852"/>
                    </a:lnTo>
                    <a:lnTo>
                      <a:pt x="766" y="829"/>
                    </a:lnTo>
                    <a:lnTo>
                      <a:pt x="789" y="884"/>
                    </a:lnTo>
                    <a:lnTo>
                      <a:pt x="789" y="1276"/>
                    </a:lnTo>
                    <a:lnTo>
                      <a:pt x="785" y="1312"/>
                    </a:lnTo>
                    <a:lnTo>
                      <a:pt x="779" y="1336"/>
                    </a:lnTo>
                    <a:lnTo>
                      <a:pt x="769" y="1361"/>
                    </a:lnTo>
                    <a:lnTo>
                      <a:pt x="755" y="1379"/>
                    </a:lnTo>
                    <a:lnTo>
                      <a:pt x="738" y="1396"/>
                    </a:lnTo>
                    <a:lnTo>
                      <a:pt x="718" y="1407"/>
                    </a:lnTo>
                    <a:lnTo>
                      <a:pt x="702" y="1413"/>
                    </a:lnTo>
                    <a:lnTo>
                      <a:pt x="680" y="1416"/>
                    </a:lnTo>
                    <a:lnTo>
                      <a:pt x="91" y="1415"/>
                    </a:lnTo>
                    <a:lnTo>
                      <a:pt x="91" y="1488"/>
                    </a:lnTo>
                    <a:lnTo>
                      <a:pt x="696" y="1485"/>
                    </a:lnTo>
                    <a:lnTo>
                      <a:pt x="727" y="1484"/>
                    </a:lnTo>
                    <a:lnTo>
                      <a:pt x="747" y="1480"/>
                    </a:lnTo>
                    <a:lnTo>
                      <a:pt x="770" y="1474"/>
                    </a:lnTo>
                    <a:lnTo>
                      <a:pt x="790" y="1465"/>
                    </a:lnTo>
                    <a:lnTo>
                      <a:pt x="809" y="1448"/>
                    </a:lnTo>
                    <a:lnTo>
                      <a:pt x="828" y="1420"/>
                    </a:lnTo>
                    <a:lnTo>
                      <a:pt x="842" y="1396"/>
                    </a:lnTo>
                    <a:lnTo>
                      <a:pt x="854" y="1370"/>
                    </a:lnTo>
                    <a:lnTo>
                      <a:pt x="861" y="1340"/>
                    </a:lnTo>
                    <a:lnTo>
                      <a:pt x="867" y="1306"/>
                    </a:lnTo>
                    <a:lnTo>
                      <a:pt x="869" y="1267"/>
                    </a:lnTo>
                    <a:lnTo>
                      <a:pt x="869" y="700"/>
                    </a:lnTo>
                    <a:close/>
                  </a:path>
                </a:pathLst>
              </a:custGeom>
              <a:solidFill>
                <a:srgbClr val="000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8561880" y="1434960"/>
                <a:ext cx="699840" cy="1069920"/>
                <a:chOff x="8561880" y="1434960"/>
                <a:chExt cx="699840" cy="1069920"/>
              </a:xfrm>
            </p:grpSpPr>
            <p:sp>
              <p:nvSpPr>
                <p:cNvPr id="132" name=""/>
                <p:cNvSpPr/>
                <p:nvPr/>
              </p:nvSpPr>
              <p:spPr>
                <a:xfrm flipH="1">
                  <a:off x="8561880" y="1434960"/>
                  <a:ext cx="699840" cy="1069920"/>
                </a:xfrm>
                <a:custGeom>
                  <a:avLst/>
                  <a:gdLst/>
                  <a:ahLst/>
                  <a:rect l="l" t="t" r="r" b="b"/>
                  <a:pathLst>
                    <a:path w="1323" h="2697">
                      <a:moveTo>
                        <a:pt x="453" y="577"/>
                      </a:moveTo>
                      <a:lnTo>
                        <a:pt x="488" y="455"/>
                      </a:lnTo>
                      <a:lnTo>
                        <a:pt x="518" y="311"/>
                      </a:lnTo>
                      <a:lnTo>
                        <a:pt x="533" y="186"/>
                      </a:lnTo>
                      <a:lnTo>
                        <a:pt x="502" y="116"/>
                      </a:lnTo>
                      <a:lnTo>
                        <a:pt x="472" y="82"/>
                      </a:lnTo>
                      <a:lnTo>
                        <a:pt x="518" y="121"/>
                      </a:lnTo>
                      <a:lnTo>
                        <a:pt x="553" y="182"/>
                      </a:lnTo>
                      <a:lnTo>
                        <a:pt x="525" y="43"/>
                      </a:lnTo>
                      <a:lnTo>
                        <a:pt x="550" y="109"/>
                      </a:lnTo>
                      <a:lnTo>
                        <a:pt x="600" y="195"/>
                      </a:lnTo>
                      <a:lnTo>
                        <a:pt x="623" y="206"/>
                      </a:lnTo>
                      <a:lnTo>
                        <a:pt x="607" y="132"/>
                      </a:lnTo>
                      <a:lnTo>
                        <a:pt x="620" y="141"/>
                      </a:lnTo>
                      <a:lnTo>
                        <a:pt x="626" y="78"/>
                      </a:lnTo>
                      <a:lnTo>
                        <a:pt x="609" y="12"/>
                      </a:lnTo>
                      <a:lnTo>
                        <a:pt x="688" y="187"/>
                      </a:lnTo>
                      <a:lnTo>
                        <a:pt x="694" y="159"/>
                      </a:lnTo>
                      <a:lnTo>
                        <a:pt x="705" y="180"/>
                      </a:lnTo>
                      <a:lnTo>
                        <a:pt x="709" y="152"/>
                      </a:lnTo>
                      <a:lnTo>
                        <a:pt x="692" y="108"/>
                      </a:lnTo>
                      <a:lnTo>
                        <a:pt x="696" y="24"/>
                      </a:lnTo>
                      <a:lnTo>
                        <a:pt x="723" y="187"/>
                      </a:lnTo>
                      <a:lnTo>
                        <a:pt x="738" y="39"/>
                      </a:lnTo>
                      <a:lnTo>
                        <a:pt x="738" y="155"/>
                      </a:lnTo>
                      <a:lnTo>
                        <a:pt x="752" y="184"/>
                      </a:lnTo>
                      <a:lnTo>
                        <a:pt x="775" y="54"/>
                      </a:lnTo>
                      <a:lnTo>
                        <a:pt x="826" y="0"/>
                      </a:lnTo>
                      <a:lnTo>
                        <a:pt x="792" y="54"/>
                      </a:lnTo>
                      <a:lnTo>
                        <a:pt x="772" y="156"/>
                      </a:lnTo>
                      <a:lnTo>
                        <a:pt x="779" y="174"/>
                      </a:lnTo>
                      <a:lnTo>
                        <a:pt x="814" y="102"/>
                      </a:lnTo>
                      <a:lnTo>
                        <a:pt x="790" y="164"/>
                      </a:lnTo>
                      <a:lnTo>
                        <a:pt x="790" y="191"/>
                      </a:lnTo>
                      <a:lnTo>
                        <a:pt x="865" y="39"/>
                      </a:lnTo>
                      <a:lnTo>
                        <a:pt x="866" y="65"/>
                      </a:lnTo>
                      <a:lnTo>
                        <a:pt x="832" y="152"/>
                      </a:lnTo>
                      <a:lnTo>
                        <a:pt x="832" y="206"/>
                      </a:lnTo>
                      <a:lnTo>
                        <a:pt x="844" y="213"/>
                      </a:lnTo>
                      <a:lnTo>
                        <a:pt x="861" y="117"/>
                      </a:lnTo>
                      <a:lnTo>
                        <a:pt x="894" y="51"/>
                      </a:lnTo>
                      <a:lnTo>
                        <a:pt x="866" y="125"/>
                      </a:lnTo>
                      <a:lnTo>
                        <a:pt x="873" y="225"/>
                      </a:lnTo>
                      <a:lnTo>
                        <a:pt x="891" y="219"/>
                      </a:lnTo>
                      <a:lnTo>
                        <a:pt x="926" y="89"/>
                      </a:lnTo>
                      <a:lnTo>
                        <a:pt x="901" y="229"/>
                      </a:lnTo>
                      <a:lnTo>
                        <a:pt x="959" y="116"/>
                      </a:lnTo>
                      <a:lnTo>
                        <a:pt x="1006" y="78"/>
                      </a:lnTo>
                      <a:lnTo>
                        <a:pt x="967" y="133"/>
                      </a:lnTo>
                      <a:lnTo>
                        <a:pt x="941" y="191"/>
                      </a:lnTo>
                      <a:lnTo>
                        <a:pt x="985" y="172"/>
                      </a:lnTo>
                      <a:lnTo>
                        <a:pt x="930" y="215"/>
                      </a:lnTo>
                      <a:lnTo>
                        <a:pt x="920" y="260"/>
                      </a:lnTo>
                      <a:lnTo>
                        <a:pt x="938" y="268"/>
                      </a:lnTo>
                      <a:lnTo>
                        <a:pt x="993" y="176"/>
                      </a:lnTo>
                      <a:lnTo>
                        <a:pt x="1060" y="121"/>
                      </a:lnTo>
                      <a:lnTo>
                        <a:pt x="971" y="245"/>
                      </a:lnTo>
                      <a:lnTo>
                        <a:pt x="1014" y="206"/>
                      </a:lnTo>
                      <a:lnTo>
                        <a:pt x="1241" y="167"/>
                      </a:lnTo>
                      <a:lnTo>
                        <a:pt x="1002" y="226"/>
                      </a:lnTo>
                      <a:lnTo>
                        <a:pt x="978" y="269"/>
                      </a:lnTo>
                      <a:lnTo>
                        <a:pt x="1002" y="262"/>
                      </a:lnTo>
                      <a:lnTo>
                        <a:pt x="1071" y="223"/>
                      </a:lnTo>
                      <a:lnTo>
                        <a:pt x="1017" y="281"/>
                      </a:lnTo>
                      <a:lnTo>
                        <a:pt x="973" y="308"/>
                      </a:lnTo>
                      <a:lnTo>
                        <a:pt x="973" y="343"/>
                      </a:lnTo>
                      <a:lnTo>
                        <a:pt x="985" y="371"/>
                      </a:lnTo>
                      <a:lnTo>
                        <a:pt x="1010" y="401"/>
                      </a:lnTo>
                      <a:lnTo>
                        <a:pt x="1039" y="443"/>
                      </a:lnTo>
                      <a:lnTo>
                        <a:pt x="1064" y="480"/>
                      </a:lnTo>
                      <a:lnTo>
                        <a:pt x="1089" y="518"/>
                      </a:lnTo>
                      <a:lnTo>
                        <a:pt x="1112" y="554"/>
                      </a:lnTo>
                      <a:lnTo>
                        <a:pt x="1128" y="583"/>
                      </a:lnTo>
                      <a:lnTo>
                        <a:pt x="1154" y="632"/>
                      </a:lnTo>
                      <a:lnTo>
                        <a:pt x="1182" y="689"/>
                      </a:lnTo>
                      <a:lnTo>
                        <a:pt x="1203" y="738"/>
                      </a:lnTo>
                      <a:lnTo>
                        <a:pt x="1202" y="749"/>
                      </a:lnTo>
                      <a:lnTo>
                        <a:pt x="1197" y="761"/>
                      </a:lnTo>
                      <a:lnTo>
                        <a:pt x="1189" y="768"/>
                      </a:lnTo>
                      <a:lnTo>
                        <a:pt x="1179" y="772"/>
                      </a:lnTo>
                      <a:lnTo>
                        <a:pt x="1163" y="775"/>
                      </a:lnTo>
                      <a:lnTo>
                        <a:pt x="999" y="759"/>
                      </a:lnTo>
                      <a:lnTo>
                        <a:pt x="987" y="796"/>
                      </a:lnTo>
                      <a:lnTo>
                        <a:pt x="964" y="920"/>
                      </a:lnTo>
                      <a:lnTo>
                        <a:pt x="948" y="1009"/>
                      </a:lnTo>
                      <a:lnTo>
                        <a:pt x="927" y="1082"/>
                      </a:lnTo>
                      <a:lnTo>
                        <a:pt x="917" y="1088"/>
                      </a:lnTo>
                      <a:lnTo>
                        <a:pt x="902" y="1092"/>
                      </a:lnTo>
                      <a:lnTo>
                        <a:pt x="886" y="1095"/>
                      </a:lnTo>
                      <a:lnTo>
                        <a:pt x="832" y="1093"/>
                      </a:lnTo>
                      <a:lnTo>
                        <a:pt x="703" y="1036"/>
                      </a:lnTo>
                      <a:lnTo>
                        <a:pt x="691" y="1059"/>
                      </a:lnTo>
                      <a:lnTo>
                        <a:pt x="670" y="1148"/>
                      </a:lnTo>
                      <a:lnTo>
                        <a:pt x="655" y="1217"/>
                      </a:lnTo>
                      <a:lnTo>
                        <a:pt x="635" y="1309"/>
                      </a:lnTo>
                      <a:lnTo>
                        <a:pt x="630" y="1370"/>
                      </a:lnTo>
                      <a:lnTo>
                        <a:pt x="658" y="1410"/>
                      </a:lnTo>
                      <a:lnTo>
                        <a:pt x="693" y="1460"/>
                      </a:lnTo>
                      <a:lnTo>
                        <a:pt x="737" y="1526"/>
                      </a:lnTo>
                      <a:lnTo>
                        <a:pt x="802" y="1543"/>
                      </a:lnTo>
                      <a:lnTo>
                        <a:pt x="853" y="1555"/>
                      </a:lnTo>
                      <a:lnTo>
                        <a:pt x="925" y="1569"/>
                      </a:lnTo>
                      <a:lnTo>
                        <a:pt x="966" y="1577"/>
                      </a:lnTo>
                      <a:lnTo>
                        <a:pt x="1002" y="1579"/>
                      </a:lnTo>
                      <a:lnTo>
                        <a:pt x="1031" y="1583"/>
                      </a:lnTo>
                      <a:lnTo>
                        <a:pt x="1057" y="1583"/>
                      </a:lnTo>
                      <a:lnTo>
                        <a:pt x="1089" y="1579"/>
                      </a:lnTo>
                      <a:lnTo>
                        <a:pt x="1134" y="1577"/>
                      </a:lnTo>
                      <a:lnTo>
                        <a:pt x="1185" y="1547"/>
                      </a:lnTo>
                      <a:lnTo>
                        <a:pt x="1199" y="1540"/>
                      </a:lnTo>
                      <a:lnTo>
                        <a:pt x="1212" y="1542"/>
                      </a:lnTo>
                      <a:lnTo>
                        <a:pt x="1223" y="1548"/>
                      </a:lnTo>
                      <a:lnTo>
                        <a:pt x="1237" y="1564"/>
                      </a:lnTo>
                      <a:lnTo>
                        <a:pt x="1241" y="1575"/>
                      </a:lnTo>
                      <a:lnTo>
                        <a:pt x="1245" y="1596"/>
                      </a:lnTo>
                      <a:lnTo>
                        <a:pt x="1247" y="1620"/>
                      </a:lnTo>
                      <a:lnTo>
                        <a:pt x="1263" y="1627"/>
                      </a:lnTo>
                      <a:lnTo>
                        <a:pt x="1286" y="1642"/>
                      </a:lnTo>
                      <a:lnTo>
                        <a:pt x="1303" y="1655"/>
                      </a:lnTo>
                      <a:lnTo>
                        <a:pt x="1323" y="1673"/>
                      </a:lnTo>
                      <a:lnTo>
                        <a:pt x="1321" y="1686"/>
                      </a:lnTo>
                      <a:lnTo>
                        <a:pt x="1316" y="1704"/>
                      </a:lnTo>
                      <a:lnTo>
                        <a:pt x="1307" y="1716"/>
                      </a:lnTo>
                      <a:lnTo>
                        <a:pt x="1293" y="1727"/>
                      </a:lnTo>
                      <a:lnTo>
                        <a:pt x="1299" y="1739"/>
                      </a:lnTo>
                      <a:lnTo>
                        <a:pt x="1305" y="1755"/>
                      </a:lnTo>
                      <a:lnTo>
                        <a:pt x="1311" y="1776"/>
                      </a:lnTo>
                      <a:lnTo>
                        <a:pt x="1310" y="1791"/>
                      </a:lnTo>
                      <a:lnTo>
                        <a:pt x="1305" y="1811"/>
                      </a:lnTo>
                      <a:lnTo>
                        <a:pt x="1293" y="1821"/>
                      </a:lnTo>
                      <a:lnTo>
                        <a:pt x="1267" y="1839"/>
                      </a:lnTo>
                      <a:lnTo>
                        <a:pt x="1270" y="1865"/>
                      </a:lnTo>
                      <a:lnTo>
                        <a:pt x="1270" y="1881"/>
                      </a:lnTo>
                      <a:lnTo>
                        <a:pt x="1267" y="1891"/>
                      </a:lnTo>
                      <a:lnTo>
                        <a:pt x="1261" y="1899"/>
                      </a:lnTo>
                      <a:lnTo>
                        <a:pt x="1250" y="1904"/>
                      </a:lnTo>
                      <a:lnTo>
                        <a:pt x="1239" y="1902"/>
                      </a:lnTo>
                      <a:lnTo>
                        <a:pt x="1217" y="1893"/>
                      </a:lnTo>
                      <a:lnTo>
                        <a:pt x="1160" y="1869"/>
                      </a:lnTo>
                      <a:lnTo>
                        <a:pt x="1090" y="1839"/>
                      </a:lnTo>
                      <a:lnTo>
                        <a:pt x="993" y="1809"/>
                      </a:lnTo>
                      <a:lnTo>
                        <a:pt x="977" y="1809"/>
                      </a:lnTo>
                      <a:lnTo>
                        <a:pt x="920" y="1794"/>
                      </a:lnTo>
                      <a:lnTo>
                        <a:pt x="808" y="1761"/>
                      </a:lnTo>
                      <a:lnTo>
                        <a:pt x="715" y="1748"/>
                      </a:lnTo>
                      <a:lnTo>
                        <a:pt x="693" y="1751"/>
                      </a:lnTo>
                      <a:lnTo>
                        <a:pt x="645" y="1755"/>
                      </a:lnTo>
                      <a:lnTo>
                        <a:pt x="621" y="1731"/>
                      </a:lnTo>
                      <a:lnTo>
                        <a:pt x="604" y="1716"/>
                      </a:lnTo>
                      <a:lnTo>
                        <a:pt x="593" y="1703"/>
                      </a:lnTo>
                      <a:lnTo>
                        <a:pt x="586" y="1686"/>
                      </a:lnTo>
                      <a:lnTo>
                        <a:pt x="575" y="1665"/>
                      </a:lnTo>
                      <a:lnTo>
                        <a:pt x="519" y="1583"/>
                      </a:lnTo>
                      <a:lnTo>
                        <a:pt x="570" y="1656"/>
                      </a:lnTo>
                      <a:lnTo>
                        <a:pt x="588" y="1685"/>
                      </a:lnTo>
                      <a:lnTo>
                        <a:pt x="595" y="1708"/>
                      </a:lnTo>
                      <a:lnTo>
                        <a:pt x="641" y="1751"/>
                      </a:lnTo>
                      <a:lnTo>
                        <a:pt x="664" y="1756"/>
                      </a:lnTo>
                      <a:lnTo>
                        <a:pt x="696" y="1750"/>
                      </a:lnTo>
                      <a:lnTo>
                        <a:pt x="717" y="1751"/>
                      </a:lnTo>
                      <a:lnTo>
                        <a:pt x="757" y="1768"/>
                      </a:lnTo>
                      <a:lnTo>
                        <a:pt x="779" y="1787"/>
                      </a:lnTo>
                      <a:lnTo>
                        <a:pt x="799" y="1805"/>
                      </a:lnTo>
                      <a:lnTo>
                        <a:pt x="820" y="1833"/>
                      </a:lnTo>
                      <a:lnTo>
                        <a:pt x="828" y="1850"/>
                      </a:lnTo>
                      <a:lnTo>
                        <a:pt x="826" y="1867"/>
                      </a:lnTo>
                      <a:lnTo>
                        <a:pt x="813" y="1890"/>
                      </a:lnTo>
                      <a:lnTo>
                        <a:pt x="796" y="1916"/>
                      </a:lnTo>
                      <a:lnTo>
                        <a:pt x="762" y="1955"/>
                      </a:lnTo>
                      <a:lnTo>
                        <a:pt x="713" y="2008"/>
                      </a:lnTo>
                      <a:lnTo>
                        <a:pt x="680" y="2047"/>
                      </a:lnTo>
                      <a:lnTo>
                        <a:pt x="611" y="2094"/>
                      </a:lnTo>
                      <a:lnTo>
                        <a:pt x="510" y="2158"/>
                      </a:lnTo>
                      <a:lnTo>
                        <a:pt x="438" y="2198"/>
                      </a:lnTo>
                      <a:lnTo>
                        <a:pt x="420" y="2220"/>
                      </a:lnTo>
                      <a:lnTo>
                        <a:pt x="400" y="2243"/>
                      </a:lnTo>
                      <a:lnTo>
                        <a:pt x="362" y="2275"/>
                      </a:lnTo>
                      <a:lnTo>
                        <a:pt x="354" y="2319"/>
                      </a:lnTo>
                      <a:lnTo>
                        <a:pt x="354" y="2402"/>
                      </a:lnTo>
                      <a:lnTo>
                        <a:pt x="361" y="2471"/>
                      </a:lnTo>
                      <a:lnTo>
                        <a:pt x="373" y="2518"/>
                      </a:lnTo>
                      <a:lnTo>
                        <a:pt x="437" y="2607"/>
                      </a:lnTo>
                      <a:lnTo>
                        <a:pt x="476" y="2646"/>
                      </a:lnTo>
                      <a:lnTo>
                        <a:pt x="479" y="2658"/>
                      </a:lnTo>
                      <a:lnTo>
                        <a:pt x="477" y="2671"/>
                      </a:lnTo>
                      <a:lnTo>
                        <a:pt x="406" y="2697"/>
                      </a:lnTo>
                      <a:lnTo>
                        <a:pt x="329" y="2687"/>
                      </a:lnTo>
                      <a:lnTo>
                        <a:pt x="288" y="2684"/>
                      </a:lnTo>
                      <a:lnTo>
                        <a:pt x="248" y="2691"/>
                      </a:lnTo>
                      <a:lnTo>
                        <a:pt x="209" y="2691"/>
                      </a:lnTo>
                      <a:lnTo>
                        <a:pt x="169" y="2683"/>
                      </a:lnTo>
                      <a:lnTo>
                        <a:pt x="164" y="2676"/>
                      </a:lnTo>
                      <a:lnTo>
                        <a:pt x="158" y="2663"/>
                      </a:lnTo>
                      <a:lnTo>
                        <a:pt x="163" y="2522"/>
                      </a:lnTo>
                      <a:lnTo>
                        <a:pt x="182" y="2379"/>
                      </a:lnTo>
                      <a:lnTo>
                        <a:pt x="167" y="2333"/>
                      </a:lnTo>
                      <a:lnTo>
                        <a:pt x="140" y="2290"/>
                      </a:lnTo>
                      <a:lnTo>
                        <a:pt x="129" y="2279"/>
                      </a:lnTo>
                      <a:lnTo>
                        <a:pt x="108" y="2256"/>
                      </a:lnTo>
                      <a:lnTo>
                        <a:pt x="93" y="2243"/>
                      </a:lnTo>
                      <a:lnTo>
                        <a:pt x="91" y="2228"/>
                      </a:lnTo>
                      <a:lnTo>
                        <a:pt x="93" y="2215"/>
                      </a:lnTo>
                      <a:lnTo>
                        <a:pt x="112" y="2189"/>
                      </a:lnTo>
                      <a:lnTo>
                        <a:pt x="140" y="2162"/>
                      </a:lnTo>
                      <a:lnTo>
                        <a:pt x="164" y="2142"/>
                      </a:lnTo>
                      <a:lnTo>
                        <a:pt x="198" y="2141"/>
                      </a:lnTo>
                      <a:lnTo>
                        <a:pt x="228" y="2143"/>
                      </a:lnTo>
                      <a:lnTo>
                        <a:pt x="360" y="2050"/>
                      </a:lnTo>
                      <a:lnTo>
                        <a:pt x="460" y="1980"/>
                      </a:lnTo>
                      <a:lnTo>
                        <a:pt x="551" y="1922"/>
                      </a:lnTo>
                      <a:lnTo>
                        <a:pt x="522" y="1928"/>
                      </a:lnTo>
                      <a:lnTo>
                        <a:pt x="434" y="1900"/>
                      </a:lnTo>
                      <a:lnTo>
                        <a:pt x="344" y="1894"/>
                      </a:lnTo>
                      <a:lnTo>
                        <a:pt x="221" y="1873"/>
                      </a:lnTo>
                      <a:lnTo>
                        <a:pt x="182" y="1881"/>
                      </a:lnTo>
                      <a:lnTo>
                        <a:pt x="92" y="1869"/>
                      </a:lnTo>
                      <a:lnTo>
                        <a:pt x="71" y="1864"/>
                      </a:lnTo>
                      <a:lnTo>
                        <a:pt x="50" y="1855"/>
                      </a:lnTo>
                      <a:lnTo>
                        <a:pt x="33" y="1843"/>
                      </a:lnTo>
                      <a:lnTo>
                        <a:pt x="22" y="1829"/>
                      </a:lnTo>
                      <a:lnTo>
                        <a:pt x="12" y="1804"/>
                      </a:lnTo>
                      <a:lnTo>
                        <a:pt x="5" y="1770"/>
                      </a:lnTo>
                      <a:lnTo>
                        <a:pt x="1" y="1739"/>
                      </a:lnTo>
                      <a:lnTo>
                        <a:pt x="0" y="1696"/>
                      </a:lnTo>
                      <a:lnTo>
                        <a:pt x="3" y="1661"/>
                      </a:lnTo>
                      <a:lnTo>
                        <a:pt x="6" y="1622"/>
                      </a:lnTo>
                      <a:lnTo>
                        <a:pt x="11" y="1588"/>
                      </a:lnTo>
                      <a:lnTo>
                        <a:pt x="21" y="1562"/>
                      </a:lnTo>
                      <a:lnTo>
                        <a:pt x="52" y="1462"/>
                      </a:lnTo>
                      <a:lnTo>
                        <a:pt x="87" y="1342"/>
                      </a:lnTo>
                      <a:lnTo>
                        <a:pt x="112" y="1261"/>
                      </a:lnTo>
                      <a:lnTo>
                        <a:pt x="178" y="1126"/>
                      </a:lnTo>
                      <a:lnTo>
                        <a:pt x="243" y="1019"/>
                      </a:lnTo>
                      <a:lnTo>
                        <a:pt x="298" y="939"/>
                      </a:lnTo>
                      <a:lnTo>
                        <a:pt x="335" y="885"/>
                      </a:lnTo>
                      <a:lnTo>
                        <a:pt x="361" y="837"/>
                      </a:lnTo>
                      <a:lnTo>
                        <a:pt x="393" y="796"/>
                      </a:lnTo>
                      <a:lnTo>
                        <a:pt x="400" y="733"/>
                      </a:lnTo>
                      <a:lnTo>
                        <a:pt x="431" y="650"/>
                      </a:lnTo>
                      <a:lnTo>
                        <a:pt x="453" y="577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" name=""/>
                <p:cNvGrpSpPr/>
                <p:nvPr/>
              </p:nvGrpSpPr>
              <p:grpSpPr>
                <a:xfrm>
                  <a:off x="8762400" y="1565280"/>
                  <a:ext cx="88560" cy="98280"/>
                  <a:chOff x="8762400" y="1565280"/>
                  <a:chExt cx="88560" cy="982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>
                    <a:off x="8762400" y="1565280"/>
                    <a:ext cx="885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88">
                        <a:moveTo>
                          <a:pt x="0" y="28"/>
                        </a:moveTo>
                        <a:lnTo>
                          <a:pt x="21" y="18"/>
                        </a:lnTo>
                        <a:lnTo>
                          <a:pt x="41" y="9"/>
                        </a:lnTo>
                        <a:lnTo>
                          <a:pt x="58" y="4"/>
                        </a:lnTo>
                        <a:lnTo>
                          <a:pt x="74" y="1"/>
                        </a:lnTo>
                        <a:lnTo>
                          <a:pt x="88" y="0"/>
                        </a:lnTo>
                        <a:lnTo>
                          <a:pt x="102" y="4"/>
                        </a:lnTo>
                        <a:lnTo>
                          <a:pt x="108" y="13"/>
                        </a:lnTo>
                        <a:lnTo>
                          <a:pt x="115" y="27"/>
                        </a:lnTo>
                        <a:lnTo>
                          <a:pt x="123" y="41"/>
                        </a:lnTo>
                        <a:lnTo>
                          <a:pt x="133" y="58"/>
                        </a:lnTo>
                        <a:lnTo>
                          <a:pt x="140" y="71"/>
                        </a:lnTo>
                        <a:lnTo>
                          <a:pt x="152" y="83"/>
                        </a:lnTo>
                        <a:lnTo>
                          <a:pt x="169" y="88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>
                    <a:off x="8764200" y="1604880"/>
                    <a:ext cx="2664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44">
                        <a:moveTo>
                          <a:pt x="47" y="0"/>
                        </a:moveTo>
                        <a:lnTo>
                          <a:pt x="36" y="8"/>
                        </a:lnTo>
                        <a:lnTo>
                          <a:pt x="25" y="22"/>
                        </a:lnTo>
                        <a:lnTo>
                          <a:pt x="14" y="39"/>
                        </a:lnTo>
                        <a:lnTo>
                          <a:pt x="7" y="57"/>
                        </a:lnTo>
                        <a:lnTo>
                          <a:pt x="2" y="75"/>
                        </a:lnTo>
                        <a:lnTo>
                          <a:pt x="0" y="95"/>
                        </a:lnTo>
                        <a:lnTo>
                          <a:pt x="0" y="113"/>
                        </a:lnTo>
                        <a:lnTo>
                          <a:pt x="3" y="134"/>
                        </a:lnTo>
                        <a:lnTo>
                          <a:pt x="7" y="144"/>
                        </a:lnTo>
                        <a:lnTo>
                          <a:pt x="17" y="135"/>
                        </a:lnTo>
                        <a:lnTo>
                          <a:pt x="24" y="125"/>
                        </a:lnTo>
                        <a:lnTo>
                          <a:pt x="32" y="112"/>
                        </a:lnTo>
                        <a:lnTo>
                          <a:pt x="38" y="100"/>
                        </a:lnTo>
                        <a:lnTo>
                          <a:pt x="44" y="84"/>
                        </a:lnTo>
                        <a:lnTo>
                          <a:pt x="48" y="69"/>
                        </a:lnTo>
                        <a:lnTo>
                          <a:pt x="52" y="48"/>
                        </a:lnTo>
                        <a:lnTo>
                          <a:pt x="53" y="32"/>
                        </a:lnTo>
                        <a:lnTo>
                          <a:pt x="51" y="14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dfd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6" name=""/>
          <p:cNvGrpSpPr/>
          <p:nvPr/>
        </p:nvGrpSpPr>
        <p:grpSpPr>
          <a:xfrm>
            <a:off x="7835400" y="1886040"/>
            <a:ext cx="1435320" cy="1089720"/>
            <a:chOff x="7835400" y="1886040"/>
            <a:chExt cx="1435320" cy="1089720"/>
          </a:xfrm>
        </p:grpSpPr>
        <p:grpSp>
          <p:nvGrpSpPr>
            <p:cNvPr id="137" name=""/>
            <p:cNvGrpSpPr/>
            <p:nvPr/>
          </p:nvGrpSpPr>
          <p:grpSpPr>
            <a:xfrm>
              <a:off x="8021160" y="2474640"/>
              <a:ext cx="743040" cy="501120"/>
              <a:chOff x="8021160" y="2474640"/>
              <a:chExt cx="743040" cy="501120"/>
            </a:xfrm>
          </p:grpSpPr>
          <p:sp>
            <p:nvSpPr>
              <p:cNvPr id="138" name=""/>
              <p:cNvSpPr/>
              <p:nvPr/>
            </p:nvSpPr>
            <p:spPr>
              <a:xfrm flipH="1">
                <a:off x="8021160" y="2479320"/>
                <a:ext cx="743040" cy="496440"/>
              </a:xfrm>
              <a:custGeom>
                <a:avLst/>
                <a:gdLst/>
                <a:ahLst/>
                <a:rect l="l" t="t" r="r" b="b"/>
                <a:pathLst>
                  <a:path w="1403" h="1256">
                    <a:moveTo>
                      <a:pt x="1403" y="1253"/>
                    </a:moveTo>
                    <a:lnTo>
                      <a:pt x="1403" y="604"/>
                    </a:lnTo>
                    <a:lnTo>
                      <a:pt x="1382" y="86"/>
                    </a:lnTo>
                    <a:lnTo>
                      <a:pt x="671" y="0"/>
                    </a:lnTo>
                    <a:lnTo>
                      <a:pt x="22" y="77"/>
                    </a:lnTo>
                    <a:lnTo>
                      <a:pt x="19" y="260"/>
                    </a:lnTo>
                    <a:lnTo>
                      <a:pt x="0" y="1248"/>
                    </a:lnTo>
                    <a:lnTo>
                      <a:pt x="144" y="1248"/>
                    </a:lnTo>
                    <a:lnTo>
                      <a:pt x="144" y="354"/>
                    </a:lnTo>
                    <a:lnTo>
                      <a:pt x="422" y="332"/>
                    </a:lnTo>
                    <a:lnTo>
                      <a:pt x="1272" y="332"/>
                    </a:lnTo>
                    <a:lnTo>
                      <a:pt x="1284" y="1256"/>
                    </a:lnTo>
                    <a:lnTo>
                      <a:pt x="1403" y="1253"/>
                    </a:lnTo>
                    <a:close/>
                  </a:path>
                </a:pathLst>
              </a:custGeom>
              <a:solidFill>
                <a:srgbClr val="000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8418240" y="2474640"/>
                <a:ext cx="288720" cy="126720"/>
              </a:xfrm>
              <a:custGeom>
                <a:avLst/>
                <a:gdLst/>
                <a:ahLst/>
                <a:rect l="l" t="t" r="r" b="b"/>
                <a:pathLst>
                  <a:path w="548" h="319">
                    <a:moveTo>
                      <a:pt x="102" y="62"/>
                    </a:moveTo>
                    <a:lnTo>
                      <a:pt x="175" y="50"/>
                    </a:lnTo>
                    <a:lnTo>
                      <a:pt x="242" y="0"/>
                    </a:lnTo>
                    <a:lnTo>
                      <a:pt x="313" y="75"/>
                    </a:lnTo>
                    <a:lnTo>
                      <a:pt x="533" y="221"/>
                    </a:lnTo>
                    <a:lnTo>
                      <a:pt x="548" y="275"/>
                    </a:lnTo>
                    <a:lnTo>
                      <a:pt x="421" y="319"/>
                    </a:lnTo>
                    <a:lnTo>
                      <a:pt x="0" y="99"/>
                    </a:lnTo>
                    <a:lnTo>
                      <a:pt x="102" y="62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7835400" y="2025360"/>
              <a:ext cx="693720" cy="746640"/>
              <a:chOff x="7835400" y="2025360"/>
              <a:chExt cx="693720" cy="74664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7835400" y="2025360"/>
                <a:ext cx="693720" cy="569520"/>
                <a:chOff x="7835400" y="2025360"/>
                <a:chExt cx="693720" cy="569520"/>
              </a:xfrm>
            </p:grpSpPr>
            <p:sp>
              <p:nvSpPr>
                <p:cNvPr id="142" name=""/>
                <p:cNvSpPr/>
                <p:nvPr/>
              </p:nvSpPr>
              <p:spPr>
                <a:xfrm flipH="1">
                  <a:off x="7835040" y="2025360"/>
                  <a:ext cx="693720" cy="569520"/>
                </a:xfrm>
                <a:custGeom>
                  <a:avLst/>
                  <a:gdLst/>
                  <a:ahLst/>
                  <a:rect l="l" t="t" r="r" b="b"/>
                  <a:pathLst>
                    <a:path w="1310" h="1436">
                      <a:moveTo>
                        <a:pt x="245" y="291"/>
                      </a:moveTo>
                      <a:lnTo>
                        <a:pt x="276" y="192"/>
                      </a:lnTo>
                      <a:lnTo>
                        <a:pt x="297" y="129"/>
                      </a:lnTo>
                      <a:lnTo>
                        <a:pt x="304" y="111"/>
                      </a:lnTo>
                      <a:lnTo>
                        <a:pt x="316" y="95"/>
                      </a:lnTo>
                      <a:lnTo>
                        <a:pt x="323" y="87"/>
                      </a:lnTo>
                      <a:lnTo>
                        <a:pt x="337" y="82"/>
                      </a:lnTo>
                      <a:lnTo>
                        <a:pt x="502" y="47"/>
                      </a:lnTo>
                      <a:lnTo>
                        <a:pt x="681" y="13"/>
                      </a:lnTo>
                      <a:lnTo>
                        <a:pt x="841" y="0"/>
                      </a:lnTo>
                      <a:lnTo>
                        <a:pt x="933" y="0"/>
                      </a:lnTo>
                      <a:lnTo>
                        <a:pt x="1124" y="12"/>
                      </a:lnTo>
                      <a:lnTo>
                        <a:pt x="1262" y="18"/>
                      </a:lnTo>
                      <a:lnTo>
                        <a:pt x="1282" y="21"/>
                      </a:lnTo>
                      <a:lnTo>
                        <a:pt x="1295" y="27"/>
                      </a:lnTo>
                      <a:lnTo>
                        <a:pt x="1304" y="34"/>
                      </a:lnTo>
                      <a:lnTo>
                        <a:pt x="1310" y="44"/>
                      </a:lnTo>
                      <a:lnTo>
                        <a:pt x="1310" y="57"/>
                      </a:lnTo>
                      <a:lnTo>
                        <a:pt x="1303" y="96"/>
                      </a:lnTo>
                      <a:lnTo>
                        <a:pt x="1276" y="226"/>
                      </a:lnTo>
                      <a:lnTo>
                        <a:pt x="1256" y="322"/>
                      </a:lnTo>
                      <a:lnTo>
                        <a:pt x="1212" y="539"/>
                      </a:lnTo>
                      <a:lnTo>
                        <a:pt x="1183" y="673"/>
                      </a:lnTo>
                      <a:lnTo>
                        <a:pt x="1105" y="987"/>
                      </a:lnTo>
                      <a:lnTo>
                        <a:pt x="1030" y="1237"/>
                      </a:lnTo>
                      <a:lnTo>
                        <a:pt x="1015" y="1285"/>
                      </a:lnTo>
                      <a:lnTo>
                        <a:pt x="1007" y="1313"/>
                      </a:lnTo>
                      <a:lnTo>
                        <a:pt x="1000" y="1339"/>
                      </a:lnTo>
                      <a:lnTo>
                        <a:pt x="991" y="1354"/>
                      </a:lnTo>
                      <a:lnTo>
                        <a:pt x="978" y="1371"/>
                      </a:lnTo>
                      <a:lnTo>
                        <a:pt x="965" y="1378"/>
                      </a:lnTo>
                      <a:lnTo>
                        <a:pt x="940" y="1384"/>
                      </a:lnTo>
                      <a:lnTo>
                        <a:pt x="896" y="1388"/>
                      </a:lnTo>
                      <a:lnTo>
                        <a:pt x="821" y="1388"/>
                      </a:lnTo>
                      <a:lnTo>
                        <a:pt x="758" y="1396"/>
                      </a:lnTo>
                      <a:lnTo>
                        <a:pt x="675" y="1410"/>
                      </a:lnTo>
                      <a:lnTo>
                        <a:pt x="589" y="1426"/>
                      </a:lnTo>
                      <a:lnTo>
                        <a:pt x="531" y="1436"/>
                      </a:lnTo>
                      <a:lnTo>
                        <a:pt x="459" y="1436"/>
                      </a:lnTo>
                      <a:lnTo>
                        <a:pt x="444" y="1426"/>
                      </a:lnTo>
                      <a:lnTo>
                        <a:pt x="40" y="1140"/>
                      </a:lnTo>
                      <a:lnTo>
                        <a:pt x="20" y="1122"/>
                      </a:lnTo>
                      <a:lnTo>
                        <a:pt x="6" y="1102"/>
                      </a:lnTo>
                      <a:lnTo>
                        <a:pt x="0" y="1080"/>
                      </a:lnTo>
                      <a:lnTo>
                        <a:pt x="0" y="1054"/>
                      </a:lnTo>
                      <a:lnTo>
                        <a:pt x="6" y="1031"/>
                      </a:lnTo>
                      <a:lnTo>
                        <a:pt x="121" y="677"/>
                      </a:lnTo>
                      <a:lnTo>
                        <a:pt x="194" y="454"/>
                      </a:lnTo>
                      <a:lnTo>
                        <a:pt x="245" y="29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>
                  <a:off x="8079480" y="2082240"/>
                  <a:ext cx="412920" cy="433080"/>
                </a:xfrm>
                <a:custGeom>
                  <a:avLst/>
                  <a:gdLst/>
                  <a:ahLst/>
                  <a:rect l="l" t="t" r="r" b="b"/>
                  <a:pathLst>
                    <a:path w="778" h="1090">
                      <a:moveTo>
                        <a:pt x="177" y="326"/>
                      </a:moveTo>
                      <a:lnTo>
                        <a:pt x="234" y="168"/>
                      </a:lnTo>
                      <a:lnTo>
                        <a:pt x="283" y="29"/>
                      </a:lnTo>
                      <a:lnTo>
                        <a:pt x="291" y="22"/>
                      </a:lnTo>
                      <a:lnTo>
                        <a:pt x="299" y="20"/>
                      </a:lnTo>
                      <a:lnTo>
                        <a:pt x="316" y="18"/>
                      </a:lnTo>
                      <a:lnTo>
                        <a:pt x="539" y="1"/>
                      </a:lnTo>
                      <a:lnTo>
                        <a:pt x="756" y="0"/>
                      </a:lnTo>
                      <a:lnTo>
                        <a:pt x="769" y="3"/>
                      </a:lnTo>
                      <a:lnTo>
                        <a:pt x="774" y="7"/>
                      </a:lnTo>
                      <a:lnTo>
                        <a:pt x="778" y="20"/>
                      </a:lnTo>
                      <a:lnTo>
                        <a:pt x="762" y="118"/>
                      </a:lnTo>
                      <a:lnTo>
                        <a:pt x="728" y="204"/>
                      </a:lnTo>
                      <a:lnTo>
                        <a:pt x="670" y="361"/>
                      </a:lnTo>
                      <a:lnTo>
                        <a:pt x="559" y="630"/>
                      </a:lnTo>
                      <a:lnTo>
                        <a:pt x="463" y="864"/>
                      </a:lnTo>
                      <a:lnTo>
                        <a:pt x="438" y="953"/>
                      </a:lnTo>
                      <a:lnTo>
                        <a:pt x="424" y="1012"/>
                      </a:lnTo>
                      <a:lnTo>
                        <a:pt x="408" y="1046"/>
                      </a:lnTo>
                      <a:lnTo>
                        <a:pt x="393" y="1071"/>
                      </a:lnTo>
                      <a:lnTo>
                        <a:pt x="384" y="1083"/>
                      </a:lnTo>
                      <a:lnTo>
                        <a:pt x="375" y="1089"/>
                      </a:lnTo>
                      <a:lnTo>
                        <a:pt x="362" y="1090"/>
                      </a:lnTo>
                      <a:lnTo>
                        <a:pt x="349" y="1087"/>
                      </a:lnTo>
                      <a:lnTo>
                        <a:pt x="327" y="1074"/>
                      </a:lnTo>
                      <a:lnTo>
                        <a:pt x="303" y="1055"/>
                      </a:lnTo>
                      <a:lnTo>
                        <a:pt x="281" y="1033"/>
                      </a:lnTo>
                      <a:lnTo>
                        <a:pt x="254" y="1012"/>
                      </a:lnTo>
                      <a:lnTo>
                        <a:pt x="230" y="993"/>
                      </a:lnTo>
                      <a:lnTo>
                        <a:pt x="11" y="897"/>
                      </a:lnTo>
                      <a:lnTo>
                        <a:pt x="3" y="890"/>
                      </a:lnTo>
                      <a:lnTo>
                        <a:pt x="0" y="881"/>
                      </a:lnTo>
                      <a:lnTo>
                        <a:pt x="2" y="868"/>
                      </a:lnTo>
                      <a:lnTo>
                        <a:pt x="6" y="857"/>
                      </a:lnTo>
                      <a:lnTo>
                        <a:pt x="177" y="326"/>
                      </a:lnTo>
                      <a:close/>
                    </a:path>
                  </a:pathLst>
                </a:custGeom>
                <a:solidFill>
                  <a:srgbClr val="005f5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921080" y="2526840"/>
                <a:ext cx="109800" cy="245160"/>
                <a:chOff x="7921080" y="2526840"/>
                <a:chExt cx="109800" cy="245160"/>
              </a:xfrm>
            </p:grpSpPr>
            <p:sp>
              <p:nvSpPr>
                <p:cNvPr id="145" name=""/>
                <p:cNvSpPr/>
                <p:nvPr/>
              </p:nvSpPr>
              <p:spPr>
                <a:xfrm flipH="1">
                  <a:off x="7921080" y="2535840"/>
                  <a:ext cx="100080" cy="236160"/>
                </a:xfrm>
                <a:custGeom>
                  <a:avLst/>
                  <a:gdLst/>
                  <a:ahLst/>
                  <a:rect l="l" t="t" r="r" b="b"/>
                  <a:pathLst>
                    <a:path w="190" h="595">
                      <a:moveTo>
                        <a:pt x="0" y="0"/>
                      </a:moveTo>
                      <a:lnTo>
                        <a:pt x="6" y="39"/>
                      </a:lnTo>
                      <a:lnTo>
                        <a:pt x="15" y="69"/>
                      </a:lnTo>
                      <a:lnTo>
                        <a:pt x="31" y="96"/>
                      </a:lnTo>
                      <a:lnTo>
                        <a:pt x="56" y="113"/>
                      </a:lnTo>
                      <a:lnTo>
                        <a:pt x="88" y="126"/>
                      </a:lnTo>
                      <a:lnTo>
                        <a:pt x="112" y="149"/>
                      </a:lnTo>
                      <a:lnTo>
                        <a:pt x="132" y="178"/>
                      </a:lnTo>
                      <a:lnTo>
                        <a:pt x="153" y="226"/>
                      </a:lnTo>
                      <a:lnTo>
                        <a:pt x="160" y="266"/>
                      </a:lnTo>
                      <a:lnTo>
                        <a:pt x="154" y="297"/>
                      </a:lnTo>
                      <a:lnTo>
                        <a:pt x="132" y="326"/>
                      </a:lnTo>
                      <a:lnTo>
                        <a:pt x="113" y="352"/>
                      </a:lnTo>
                      <a:lnTo>
                        <a:pt x="100" y="379"/>
                      </a:lnTo>
                      <a:lnTo>
                        <a:pt x="90" y="414"/>
                      </a:lnTo>
                      <a:lnTo>
                        <a:pt x="85" y="455"/>
                      </a:lnTo>
                      <a:lnTo>
                        <a:pt x="95" y="491"/>
                      </a:lnTo>
                      <a:lnTo>
                        <a:pt x="108" y="516"/>
                      </a:lnTo>
                      <a:lnTo>
                        <a:pt x="137" y="548"/>
                      </a:lnTo>
                      <a:lnTo>
                        <a:pt x="160" y="570"/>
                      </a:lnTo>
                      <a:lnTo>
                        <a:pt x="190" y="595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8011440" y="2526840"/>
                  <a:ext cx="19080" cy="1404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7" name=""/>
            <p:cNvGrpSpPr/>
            <p:nvPr/>
          </p:nvGrpSpPr>
          <p:grpSpPr>
            <a:xfrm>
              <a:off x="8478360" y="1886040"/>
              <a:ext cx="792360" cy="1075680"/>
              <a:chOff x="8478360" y="1886040"/>
              <a:chExt cx="792360" cy="1075680"/>
            </a:xfrm>
          </p:grpSpPr>
          <p:sp>
            <p:nvSpPr>
              <p:cNvPr id="148" name=""/>
              <p:cNvSpPr/>
              <p:nvPr/>
            </p:nvSpPr>
            <p:spPr>
              <a:xfrm flipH="1">
                <a:off x="8809920" y="2371680"/>
                <a:ext cx="460440" cy="590040"/>
              </a:xfrm>
              <a:custGeom>
                <a:avLst/>
                <a:gdLst/>
                <a:ahLst/>
                <a:rect l="l" t="t" r="r" b="b"/>
                <a:pathLst>
                  <a:path w="869" h="1488">
                    <a:moveTo>
                      <a:pt x="869" y="700"/>
                    </a:moveTo>
                    <a:lnTo>
                      <a:pt x="622" y="550"/>
                    </a:lnTo>
                    <a:lnTo>
                      <a:pt x="349" y="28"/>
                    </a:lnTo>
                    <a:lnTo>
                      <a:pt x="337" y="19"/>
                    </a:lnTo>
                    <a:lnTo>
                      <a:pt x="318" y="9"/>
                    </a:lnTo>
                    <a:lnTo>
                      <a:pt x="296" y="4"/>
                    </a:lnTo>
                    <a:lnTo>
                      <a:pt x="267" y="0"/>
                    </a:lnTo>
                    <a:lnTo>
                      <a:pt x="240" y="4"/>
                    </a:lnTo>
                    <a:lnTo>
                      <a:pt x="215" y="14"/>
                    </a:lnTo>
                    <a:lnTo>
                      <a:pt x="186" y="28"/>
                    </a:lnTo>
                    <a:lnTo>
                      <a:pt x="149" y="49"/>
                    </a:lnTo>
                    <a:lnTo>
                      <a:pt x="117" y="71"/>
                    </a:lnTo>
                    <a:lnTo>
                      <a:pt x="91" y="92"/>
                    </a:lnTo>
                    <a:lnTo>
                      <a:pt x="70" y="113"/>
                    </a:lnTo>
                    <a:lnTo>
                      <a:pt x="51" y="138"/>
                    </a:lnTo>
                    <a:lnTo>
                      <a:pt x="28" y="174"/>
                    </a:lnTo>
                    <a:lnTo>
                      <a:pt x="15" y="201"/>
                    </a:lnTo>
                    <a:lnTo>
                      <a:pt x="2" y="239"/>
                    </a:lnTo>
                    <a:lnTo>
                      <a:pt x="0" y="282"/>
                    </a:lnTo>
                    <a:lnTo>
                      <a:pt x="0" y="346"/>
                    </a:lnTo>
                    <a:lnTo>
                      <a:pt x="7" y="420"/>
                    </a:lnTo>
                    <a:lnTo>
                      <a:pt x="21" y="489"/>
                    </a:lnTo>
                    <a:lnTo>
                      <a:pt x="44" y="572"/>
                    </a:lnTo>
                    <a:lnTo>
                      <a:pt x="68" y="642"/>
                    </a:lnTo>
                    <a:lnTo>
                      <a:pt x="88" y="689"/>
                    </a:lnTo>
                    <a:lnTo>
                      <a:pt x="118" y="738"/>
                    </a:lnTo>
                    <a:lnTo>
                      <a:pt x="141" y="772"/>
                    </a:lnTo>
                    <a:lnTo>
                      <a:pt x="167" y="811"/>
                    </a:lnTo>
                    <a:lnTo>
                      <a:pt x="197" y="851"/>
                    </a:lnTo>
                    <a:lnTo>
                      <a:pt x="225" y="874"/>
                    </a:lnTo>
                    <a:lnTo>
                      <a:pt x="339" y="860"/>
                    </a:lnTo>
                    <a:lnTo>
                      <a:pt x="426" y="829"/>
                    </a:lnTo>
                    <a:lnTo>
                      <a:pt x="481" y="846"/>
                    </a:lnTo>
                    <a:lnTo>
                      <a:pt x="609" y="852"/>
                    </a:lnTo>
                    <a:lnTo>
                      <a:pt x="766" y="829"/>
                    </a:lnTo>
                    <a:lnTo>
                      <a:pt x="789" y="884"/>
                    </a:lnTo>
                    <a:lnTo>
                      <a:pt x="789" y="1276"/>
                    </a:lnTo>
                    <a:lnTo>
                      <a:pt x="785" y="1312"/>
                    </a:lnTo>
                    <a:lnTo>
                      <a:pt x="779" y="1336"/>
                    </a:lnTo>
                    <a:lnTo>
                      <a:pt x="769" y="1361"/>
                    </a:lnTo>
                    <a:lnTo>
                      <a:pt x="755" y="1379"/>
                    </a:lnTo>
                    <a:lnTo>
                      <a:pt x="738" y="1396"/>
                    </a:lnTo>
                    <a:lnTo>
                      <a:pt x="718" y="1407"/>
                    </a:lnTo>
                    <a:lnTo>
                      <a:pt x="702" y="1413"/>
                    </a:lnTo>
                    <a:lnTo>
                      <a:pt x="680" y="1416"/>
                    </a:lnTo>
                    <a:lnTo>
                      <a:pt x="91" y="1415"/>
                    </a:lnTo>
                    <a:lnTo>
                      <a:pt x="91" y="1488"/>
                    </a:lnTo>
                    <a:lnTo>
                      <a:pt x="696" y="1485"/>
                    </a:lnTo>
                    <a:lnTo>
                      <a:pt x="727" y="1484"/>
                    </a:lnTo>
                    <a:lnTo>
                      <a:pt x="747" y="1480"/>
                    </a:lnTo>
                    <a:lnTo>
                      <a:pt x="770" y="1474"/>
                    </a:lnTo>
                    <a:lnTo>
                      <a:pt x="790" y="1465"/>
                    </a:lnTo>
                    <a:lnTo>
                      <a:pt x="809" y="1448"/>
                    </a:lnTo>
                    <a:lnTo>
                      <a:pt x="828" y="1420"/>
                    </a:lnTo>
                    <a:lnTo>
                      <a:pt x="842" y="1396"/>
                    </a:lnTo>
                    <a:lnTo>
                      <a:pt x="854" y="1370"/>
                    </a:lnTo>
                    <a:lnTo>
                      <a:pt x="861" y="1340"/>
                    </a:lnTo>
                    <a:lnTo>
                      <a:pt x="867" y="1306"/>
                    </a:lnTo>
                    <a:lnTo>
                      <a:pt x="869" y="1267"/>
                    </a:lnTo>
                    <a:lnTo>
                      <a:pt x="869" y="700"/>
                    </a:lnTo>
                    <a:close/>
                  </a:path>
                </a:pathLst>
              </a:custGeom>
              <a:solidFill>
                <a:srgbClr val="000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8478360" y="1886040"/>
                <a:ext cx="700200" cy="1069560"/>
                <a:chOff x="8478360" y="1886040"/>
                <a:chExt cx="700200" cy="1069560"/>
              </a:xfrm>
            </p:grpSpPr>
            <p:sp>
              <p:nvSpPr>
                <p:cNvPr id="150" name=""/>
                <p:cNvSpPr/>
                <p:nvPr/>
              </p:nvSpPr>
              <p:spPr>
                <a:xfrm flipH="1">
                  <a:off x="8478000" y="1886040"/>
                  <a:ext cx="700200" cy="1069560"/>
                </a:xfrm>
                <a:custGeom>
                  <a:avLst/>
                  <a:gdLst/>
                  <a:ahLst/>
                  <a:rect l="l" t="t" r="r" b="b"/>
                  <a:pathLst>
                    <a:path w="1323" h="2697">
                      <a:moveTo>
                        <a:pt x="453" y="577"/>
                      </a:moveTo>
                      <a:lnTo>
                        <a:pt x="488" y="455"/>
                      </a:lnTo>
                      <a:lnTo>
                        <a:pt x="518" y="311"/>
                      </a:lnTo>
                      <a:lnTo>
                        <a:pt x="533" y="186"/>
                      </a:lnTo>
                      <a:lnTo>
                        <a:pt x="502" y="116"/>
                      </a:lnTo>
                      <a:lnTo>
                        <a:pt x="472" y="82"/>
                      </a:lnTo>
                      <a:lnTo>
                        <a:pt x="518" y="121"/>
                      </a:lnTo>
                      <a:lnTo>
                        <a:pt x="553" y="182"/>
                      </a:lnTo>
                      <a:lnTo>
                        <a:pt x="525" y="43"/>
                      </a:lnTo>
                      <a:lnTo>
                        <a:pt x="550" y="109"/>
                      </a:lnTo>
                      <a:lnTo>
                        <a:pt x="600" y="195"/>
                      </a:lnTo>
                      <a:lnTo>
                        <a:pt x="623" y="206"/>
                      </a:lnTo>
                      <a:lnTo>
                        <a:pt x="607" y="132"/>
                      </a:lnTo>
                      <a:lnTo>
                        <a:pt x="620" y="141"/>
                      </a:lnTo>
                      <a:lnTo>
                        <a:pt x="626" y="78"/>
                      </a:lnTo>
                      <a:lnTo>
                        <a:pt x="609" y="12"/>
                      </a:lnTo>
                      <a:lnTo>
                        <a:pt x="688" y="187"/>
                      </a:lnTo>
                      <a:lnTo>
                        <a:pt x="694" y="159"/>
                      </a:lnTo>
                      <a:lnTo>
                        <a:pt x="705" y="180"/>
                      </a:lnTo>
                      <a:lnTo>
                        <a:pt x="709" y="152"/>
                      </a:lnTo>
                      <a:lnTo>
                        <a:pt x="692" y="108"/>
                      </a:lnTo>
                      <a:lnTo>
                        <a:pt x="696" y="24"/>
                      </a:lnTo>
                      <a:lnTo>
                        <a:pt x="723" y="187"/>
                      </a:lnTo>
                      <a:lnTo>
                        <a:pt x="738" y="39"/>
                      </a:lnTo>
                      <a:lnTo>
                        <a:pt x="738" y="155"/>
                      </a:lnTo>
                      <a:lnTo>
                        <a:pt x="752" y="184"/>
                      </a:lnTo>
                      <a:lnTo>
                        <a:pt x="775" y="54"/>
                      </a:lnTo>
                      <a:lnTo>
                        <a:pt x="826" y="0"/>
                      </a:lnTo>
                      <a:lnTo>
                        <a:pt x="792" y="54"/>
                      </a:lnTo>
                      <a:lnTo>
                        <a:pt x="772" y="156"/>
                      </a:lnTo>
                      <a:lnTo>
                        <a:pt x="779" y="174"/>
                      </a:lnTo>
                      <a:lnTo>
                        <a:pt x="814" y="102"/>
                      </a:lnTo>
                      <a:lnTo>
                        <a:pt x="790" y="164"/>
                      </a:lnTo>
                      <a:lnTo>
                        <a:pt x="790" y="191"/>
                      </a:lnTo>
                      <a:lnTo>
                        <a:pt x="865" y="39"/>
                      </a:lnTo>
                      <a:lnTo>
                        <a:pt x="866" y="65"/>
                      </a:lnTo>
                      <a:lnTo>
                        <a:pt x="832" y="152"/>
                      </a:lnTo>
                      <a:lnTo>
                        <a:pt x="832" y="206"/>
                      </a:lnTo>
                      <a:lnTo>
                        <a:pt x="844" y="213"/>
                      </a:lnTo>
                      <a:lnTo>
                        <a:pt x="861" y="117"/>
                      </a:lnTo>
                      <a:lnTo>
                        <a:pt x="894" y="51"/>
                      </a:lnTo>
                      <a:lnTo>
                        <a:pt x="866" y="125"/>
                      </a:lnTo>
                      <a:lnTo>
                        <a:pt x="873" y="225"/>
                      </a:lnTo>
                      <a:lnTo>
                        <a:pt x="891" y="219"/>
                      </a:lnTo>
                      <a:lnTo>
                        <a:pt x="926" y="89"/>
                      </a:lnTo>
                      <a:lnTo>
                        <a:pt x="901" y="229"/>
                      </a:lnTo>
                      <a:lnTo>
                        <a:pt x="959" y="116"/>
                      </a:lnTo>
                      <a:lnTo>
                        <a:pt x="1006" y="78"/>
                      </a:lnTo>
                      <a:lnTo>
                        <a:pt x="967" y="133"/>
                      </a:lnTo>
                      <a:lnTo>
                        <a:pt x="941" y="191"/>
                      </a:lnTo>
                      <a:lnTo>
                        <a:pt x="985" y="172"/>
                      </a:lnTo>
                      <a:lnTo>
                        <a:pt x="930" y="215"/>
                      </a:lnTo>
                      <a:lnTo>
                        <a:pt x="920" y="260"/>
                      </a:lnTo>
                      <a:lnTo>
                        <a:pt x="938" y="268"/>
                      </a:lnTo>
                      <a:lnTo>
                        <a:pt x="993" y="176"/>
                      </a:lnTo>
                      <a:lnTo>
                        <a:pt x="1060" y="121"/>
                      </a:lnTo>
                      <a:lnTo>
                        <a:pt x="971" y="245"/>
                      </a:lnTo>
                      <a:lnTo>
                        <a:pt x="1014" y="206"/>
                      </a:lnTo>
                      <a:lnTo>
                        <a:pt x="1241" y="167"/>
                      </a:lnTo>
                      <a:lnTo>
                        <a:pt x="1002" y="226"/>
                      </a:lnTo>
                      <a:lnTo>
                        <a:pt x="978" y="269"/>
                      </a:lnTo>
                      <a:lnTo>
                        <a:pt x="1002" y="262"/>
                      </a:lnTo>
                      <a:lnTo>
                        <a:pt x="1071" y="223"/>
                      </a:lnTo>
                      <a:lnTo>
                        <a:pt x="1017" y="281"/>
                      </a:lnTo>
                      <a:lnTo>
                        <a:pt x="973" y="308"/>
                      </a:lnTo>
                      <a:lnTo>
                        <a:pt x="973" y="343"/>
                      </a:lnTo>
                      <a:lnTo>
                        <a:pt x="985" y="371"/>
                      </a:lnTo>
                      <a:lnTo>
                        <a:pt x="1010" y="401"/>
                      </a:lnTo>
                      <a:lnTo>
                        <a:pt x="1039" y="443"/>
                      </a:lnTo>
                      <a:lnTo>
                        <a:pt x="1064" y="480"/>
                      </a:lnTo>
                      <a:lnTo>
                        <a:pt x="1089" y="518"/>
                      </a:lnTo>
                      <a:lnTo>
                        <a:pt x="1112" y="554"/>
                      </a:lnTo>
                      <a:lnTo>
                        <a:pt x="1128" y="583"/>
                      </a:lnTo>
                      <a:lnTo>
                        <a:pt x="1154" y="632"/>
                      </a:lnTo>
                      <a:lnTo>
                        <a:pt x="1182" y="689"/>
                      </a:lnTo>
                      <a:lnTo>
                        <a:pt x="1203" y="738"/>
                      </a:lnTo>
                      <a:lnTo>
                        <a:pt x="1202" y="749"/>
                      </a:lnTo>
                      <a:lnTo>
                        <a:pt x="1197" y="761"/>
                      </a:lnTo>
                      <a:lnTo>
                        <a:pt x="1189" y="768"/>
                      </a:lnTo>
                      <a:lnTo>
                        <a:pt x="1179" y="772"/>
                      </a:lnTo>
                      <a:lnTo>
                        <a:pt x="1163" y="775"/>
                      </a:lnTo>
                      <a:lnTo>
                        <a:pt x="999" y="759"/>
                      </a:lnTo>
                      <a:lnTo>
                        <a:pt x="987" y="796"/>
                      </a:lnTo>
                      <a:lnTo>
                        <a:pt x="964" y="920"/>
                      </a:lnTo>
                      <a:lnTo>
                        <a:pt x="948" y="1009"/>
                      </a:lnTo>
                      <a:lnTo>
                        <a:pt x="927" y="1082"/>
                      </a:lnTo>
                      <a:lnTo>
                        <a:pt x="917" y="1088"/>
                      </a:lnTo>
                      <a:lnTo>
                        <a:pt x="902" y="1092"/>
                      </a:lnTo>
                      <a:lnTo>
                        <a:pt x="886" y="1095"/>
                      </a:lnTo>
                      <a:lnTo>
                        <a:pt x="832" y="1093"/>
                      </a:lnTo>
                      <a:lnTo>
                        <a:pt x="703" y="1036"/>
                      </a:lnTo>
                      <a:lnTo>
                        <a:pt x="691" y="1059"/>
                      </a:lnTo>
                      <a:lnTo>
                        <a:pt x="670" y="1148"/>
                      </a:lnTo>
                      <a:lnTo>
                        <a:pt x="655" y="1217"/>
                      </a:lnTo>
                      <a:lnTo>
                        <a:pt x="635" y="1309"/>
                      </a:lnTo>
                      <a:lnTo>
                        <a:pt x="630" y="1370"/>
                      </a:lnTo>
                      <a:lnTo>
                        <a:pt x="658" y="1410"/>
                      </a:lnTo>
                      <a:lnTo>
                        <a:pt x="693" y="1460"/>
                      </a:lnTo>
                      <a:lnTo>
                        <a:pt x="737" y="1526"/>
                      </a:lnTo>
                      <a:lnTo>
                        <a:pt x="802" y="1543"/>
                      </a:lnTo>
                      <a:lnTo>
                        <a:pt x="853" y="1555"/>
                      </a:lnTo>
                      <a:lnTo>
                        <a:pt x="925" y="1569"/>
                      </a:lnTo>
                      <a:lnTo>
                        <a:pt x="966" y="1577"/>
                      </a:lnTo>
                      <a:lnTo>
                        <a:pt x="1002" y="1579"/>
                      </a:lnTo>
                      <a:lnTo>
                        <a:pt x="1031" y="1583"/>
                      </a:lnTo>
                      <a:lnTo>
                        <a:pt x="1057" y="1583"/>
                      </a:lnTo>
                      <a:lnTo>
                        <a:pt x="1089" y="1579"/>
                      </a:lnTo>
                      <a:lnTo>
                        <a:pt x="1134" y="1577"/>
                      </a:lnTo>
                      <a:lnTo>
                        <a:pt x="1185" y="1547"/>
                      </a:lnTo>
                      <a:lnTo>
                        <a:pt x="1199" y="1540"/>
                      </a:lnTo>
                      <a:lnTo>
                        <a:pt x="1212" y="1542"/>
                      </a:lnTo>
                      <a:lnTo>
                        <a:pt x="1223" y="1548"/>
                      </a:lnTo>
                      <a:lnTo>
                        <a:pt x="1237" y="1564"/>
                      </a:lnTo>
                      <a:lnTo>
                        <a:pt x="1241" y="1575"/>
                      </a:lnTo>
                      <a:lnTo>
                        <a:pt x="1245" y="1596"/>
                      </a:lnTo>
                      <a:lnTo>
                        <a:pt x="1247" y="1620"/>
                      </a:lnTo>
                      <a:lnTo>
                        <a:pt x="1263" y="1627"/>
                      </a:lnTo>
                      <a:lnTo>
                        <a:pt x="1286" y="1642"/>
                      </a:lnTo>
                      <a:lnTo>
                        <a:pt x="1303" y="1655"/>
                      </a:lnTo>
                      <a:lnTo>
                        <a:pt x="1323" y="1673"/>
                      </a:lnTo>
                      <a:lnTo>
                        <a:pt x="1321" y="1686"/>
                      </a:lnTo>
                      <a:lnTo>
                        <a:pt x="1316" y="1704"/>
                      </a:lnTo>
                      <a:lnTo>
                        <a:pt x="1307" y="1716"/>
                      </a:lnTo>
                      <a:lnTo>
                        <a:pt x="1293" y="1727"/>
                      </a:lnTo>
                      <a:lnTo>
                        <a:pt x="1299" y="1739"/>
                      </a:lnTo>
                      <a:lnTo>
                        <a:pt x="1305" y="1755"/>
                      </a:lnTo>
                      <a:lnTo>
                        <a:pt x="1311" y="1776"/>
                      </a:lnTo>
                      <a:lnTo>
                        <a:pt x="1310" y="1791"/>
                      </a:lnTo>
                      <a:lnTo>
                        <a:pt x="1305" y="1811"/>
                      </a:lnTo>
                      <a:lnTo>
                        <a:pt x="1293" y="1821"/>
                      </a:lnTo>
                      <a:lnTo>
                        <a:pt x="1267" y="1839"/>
                      </a:lnTo>
                      <a:lnTo>
                        <a:pt x="1270" y="1865"/>
                      </a:lnTo>
                      <a:lnTo>
                        <a:pt x="1270" y="1881"/>
                      </a:lnTo>
                      <a:lnTo>
                        <a:pt x="1267" y="1891"/>
                      </a:lnTo>
                      <a:lnTo>
                        <a:pt x="1261" y="1899"/>
                      </a:lnTo>
                      <a:lnTo>
                        <a:pt x="1250" y="1904"/>
                      </a:lnTo>
                      <a:lnTo>
                        <a:pt x="1239" y="1902"/>
                      </a:lnTo>
                      <a:lnTo>
                        <a:pt x="1217" y="1893"/>
                      </a:lnTo>
                      <a:lnTo>
                        <a:pt x="1160" y="1869"/>
                      </a:lnTo>
                      <a:lnTo>
                        <a:pt x="1090" y="1839"/>
                      </a:lnTo>
                      <a:lnTo>
                        <a:pt x="993" y="1809"/>
                      </a:lnTo>
                      <a:lnTo>
                        <a:pt x="977" y="1809"/>
                      </a:lnTo>
                      <a:lnTo>
                        <a:pt x="920" y="1794"/>
                      </a:lnTo>
                      <a:lnTo>
                        <a:pt x="808" y="1761"/>
                      </a:lnTo>
                      <a:lnTo>
                        <a:pt x="715" y="1748"/>
                      </a:lnTo>
                      <a:lnTo>
                        <a:pt x="693" y="1751"/>
                      </a:lnTo>
                      <a:lnTo>
                        <a:pt x="645" y="1755"/>
                      </a:lnTo>
                      <a:lnTo>
                        <a:pt x="621" y="1731"/>
                      </a:lnTo>
                      <a:lnTo>
                        <a:pt x="604" y="1716"/>
                      </a:lnTo>
                      <a:lnTo>
                        <a:pt x="593" y="1703"/>
                      </a:lnTo>
                      <a:lnTo>
                        <a:pt x="586" y="1686"/>
                      </a:lnTo>
                      <a:lnTo>
                        <a:pt x="575" y="1665"/>
                      </a:lnTo>
                      <a:lnTo>
                        <a:pt x="519" y="1583"/>
                      </a:lnTo>
                      <a:lnTo>
                        <a:pt x="570" y="1656"/>
                      </a:lnTo>
                      <a:lnTo>
                        <a:pt x="588" y="1685"/>
                      </a:lnTo>
                      <a:lnTo>
                        <a:pt x="595" y="1708"/>
                      </a:lnTo>
                      <a:lnTo>
                        <a:pt x="641" y="1751"/>
                      </a:lnTo>
                      <a:lnTo>
                        <a:pt x="664" y="1756"/>
                      </a:lnTo>
                      <a:lnTo>
                        <a:pt x="696" y="1750"/>
                      </a:lnTo>
                      <a:lnTo>
                        <a:pt x="717" y="1751"/>
                      </a:lnTo>
                      <a:lnTo>
                        <a:pt x="757" y="1768"/>
                      </a:lnTo>
                      <a:lnTo>
                        <a:pt x="779" y="1787"/>
                      </a:lnTo>
                      <a:lnTo>
                        <a:pt x="799" y="1805"/>
                      </a:lnTo>
                      <a:lnTo>
                        <a:pt x="820" y="1833"/>
                      </a:lnTo>
                      <a:lnTo>
                        <a:pt x="828" y="1850"/>
                      </a:lnTo>
                      <a:lnTo>
                        <a:pt x="826" y="1867"/>
                      </a:lnTo>
                      <a:lnTo>
                        <a:pt x="813" y="1890"/>
                      </a:lnTo>
                      <a:lnTo>
                        <a:pt x="796" y="1916"/>
                      </a:lnTo>
                      <a:lnTo>
                        <a:pt x="762" y="1955"/>
                      </a:lnTo>
                      <a:lnTo>
                        <a:pt x="713" y="2008"/>
                      </a:lnTo>
                      <a:lnTo>
                        <a:pt x="680" y="2047"/>
                      </a:lnTo>
                      <a:lnTo>
                        <a:pt x="611" y="2094"/>
                      </a:lnTo>
                      <a:lnTo>
                        <a:pt x="510" y="2158"/>
                      </a:lnTo>
                      <a:lnTo>
                        <a:pt x="438" y="2198"/>
                      </a:lnTo>
                      <a:lnTo>
                        <a:pt x="420" y="2220"/>
                      </a:lnTo>
                      <a:lnTo>
                        <a:pt x="400" y="2243"/>
                      </a:lnTo>
                      <a:lnTo>
                        <a:pt x="362" y="2275"/>
                      </a:lnTo>
                      <a:lnTo>
                        <a:pt x="354" y="2319"/>
                      </a:lnTo>
                      <a:lnTo>
                        <a:pt x="354" y="2402"/>
                      </a:lnTo>
                      <a:lnTo>
                        <a:pt x="361" y="2471"/>
                      </a:lnTo>
                      <a:lnTo>
                        <a:pt x="373" y="2518"/>
                      </a:lnTo>
                      <a:lnTo>
                        <a:pt x="437" y="2607"/>
                      </a:lnTo>
                      <a:lnTo>
                        <a:pt x="476" y="2646"/>
                      </a:lnTo>
                      <a:lnTo>
                        <a:pt x="479" y="2658"/>
                      </a:lnTo>
                      <a:lnTo>
                        <a:pt x="477" y="2671"/>
                      </a:lnTo>
                      <a:lnTo>
                        <a:pt x="406" y="2697"/>
                      </a:lnTo>
                      <a:lnTo>
                        <a:pt x="329" y="2687"/>
                      </a:lnTo>
                      <a:lnTo>
                        <a:pt x="288" y="2684"/>
                      </a:lnTo>
                      <a:lnTo>
                        <a:pt x="248" y="2691"/>
                      </a:lnTo>
                      <a:lnTo>
                        <a:pt x="209" y="2691"/>
                      </a:lnTo>
                      <a:lnTo>
                        <a:pt x="169" y="2683"/>
                      </a:lnTo>
                      <a:lnTo>
                        <a:pt x="164" y="2676"/>
                      </a:lnTo>
                      <a:lnTo>
                        <a:pt x="158" y="2663"/>
                      </a:lnTo>
                      <a:lnTo>
                        <a:pt x="163" y="2522"/>
                      </a:lnTo>
                      <a:lnTo>
                        <a:pt x="182" y="2379"/>
                      </a:lnTo>
                      <a:lnTo>
                        <a:pt x="167" y="2333"/>
                      </a:lnTo>
                      <a:lnTo>
                        <a:pt x="140" y="2290"/>
                      </a:lnTo>
                      <a:lnTo>
                        <a:pt x="129" y="2279"/>
                      </a:lnTo>
                      <a:lnTo>
                        <a:pt x="108" y="2256"/>
                      </a:lnTo>
                      <a:lnTo>
                        <a:pt x="93" y="2243"/>
                      </a:lnTo>
                      <a:lnTo>
                        <a:pt x="91" y="2228"/>
                      </a:lnTo>
                      <a:lnTo>
                        <a:pt x="93" y="2215"/>
                      </a:lnTo>
                      <a:lnTo>
                        <a:pt x="112" y="2189"/>
                      </a:lnTo>
                      <a:lnTo>
                        <a:pt x="140" y="2162"/>
                      </a:lnTo>
                      <a:lnTo>
                        <a:pt x="164" y="2142"/>
                      </a:lnTo>
                      <a:lnTo>
                        <a:pt x="198" y="2141"/>
                      </a:lnTo>
                      <a:lnTo>
                        <a:pt x="228" y="2143"/>
                      </a:lnTo>
                      <a:lnTo>
                        <a:pt x="360" y="2050"/>
                      </a:lnTo>
                      <a:lnTo>
                        <a:pt x="460" y="1980"/>
                      </a:lnTo>
                      <a:lnTo>
                        <a:pt x="551" y="1922"/>
                      </a:lnTo>
                      <a:lnTo>
                        <a:pt x="522" y="1928"/>
                      </a:lnTo>
                      <a:lnTo>
                        <a:pt x="434" y="1900"/>
                      </a:lnTo>
                      <a:lnTo>
                        <a:pt x="344" y="1894"/>
                      </a:lnTo>
                      <a:lnTo>
                        <a:pt x="221" y="1873"/>
                      </a:lnTo>
                      <a:lnTo>
                        <a:pt x="182" y="1881"/>
                      </a:lnTo>
                      <a:lnTo>
                        <a:pt x="92" y="1869"/>
                      </a:lnTo>
                      <a:lnTo>
                        <a:pt x="71" y="1864"/>
                      </a:lnTo>
                      <a:lnTo>
                        <a:pt x="50" y="1855"/>
                      </a:lnTo>
                      <a:lnTo>
                        <a:pt x="33" y="1843"/>
                      </a:lnTo>
                      <a:lnTo>
                        <a:pt x="22" y="1829"/>
                      </a:lnTo>
                      <a:lnTo>
                        <a:pt x="12" y="1804"/>
                      </a:lnTo>
                      <a:lnTo>
                        <a:pt x="5" y="1770"/>
                      </a:lnTo>
                      <a:lnTo>
                        <a:pt x="1" y="1739"/>
                      </a:lnTo>
                      <a:lnTo>
                        <a:pt x="0" y="1696"/>
                      </a:lnTo>
                      <a:lnTo>
                        <a:pt x="3" y="1661"/>
                      </a:lnTo>
                      <a:lnTo>
                        <a:pt x="6" y="1622"/>
                      </a:lnTo>
                      <a:lnTo>
                        <a:pt x="11" y="1588"/>
                      </a:lnTo>
                      <a:lnTo>
                        <a:pt x="21" y="1562"/>
                      </a:lnTo>
                      <a:lnTo>
                        <a:pt x="52" y="1462"/>
                      </a:lnTo>
                      <a:lnTo>
                        <a:pt x="87" y="1342"/>
                      </a:lnTo>
                      <a:lnTo>
                        <a:pt x="112" y="1261"/>
                      </a:lnTo>
                      <a:lnTo>
                        <a:pt x="178" y="1126"/>
                      </a:lnTo>
                      <a:lnTo>
                        <a:pt x="243" y="1019"/>
                      </a:lnTo>
                      <a:lnTo>
                        <a:pt x="298" y="939"/>
                      </a:lnTo>
                      <a:lnTo>
                        <a:pt x="335" y="885"/>
                      </a:lnTo>
                      <a:lnTo>
                        <a:pt x="361" y="837"/>
                      </a:lnTo>
                      <a:lnTo>
                        <a:pt x="393" y="796"/>
                      </a:lnTo>
                      <a:lnTo>
                        <a:pt x="400" y="733"/>
                      </a:lnTo>
                      <a:lnTo>
                        <a:pt x="431" y="650"/>
                      </a:lnTo>
                      <a:lnTo>
                        <a:pt x="453" y="577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1" name=""/>
                <p:cNvGrpSpPr/>
                <p:nvPr/>
              </p:nvGrpSpPr>
              <p:grpSpPr>
                <a:xfrm>
                  <a:off x="8678520" y="2016000"/>
                  <a:ext cx="88920" cy="97560"/>
                  <a:chOff x="8678520" y="2016000"/>
                  <a:chExt cx="88920" cy="9756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flipH="1">
                    <a:off x="8678160" y="2016000"/>
                    <a:ext cx="8892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88">
                        <a:moveTo>
                          <a:pt x="0" y="28"/>
                        </a:moveTo>
                        <a:lnTo>
                          <a:pt x="21" y="18"/>
                        </a:lnTo>
                        <a:lnTo>
                          <a:pt x="41" y="9"/>
                        </a:lnTo>
                        <a:lnTo>
                          <a:pt x="58" y="4"/>
                        </a:lnTo>
                        <a:lnTo>
                          <a:pt x="74" y="1"/>
                        </a:lnTo>
                        <a:lnTo>
                          <a:pt x="88" y="0"/>
                        </a:lnTo>
                        <a:lnTo>
                          <a:pt x="102" y="4"/>
                        </a:lnTo>
                        <a:lnTo>
                          <a:pt x="108" y="13"/>
                        </a:lnTo>
                        <a:lnTo>
                          <a:pt x="115" y="27"/>
                        </a:lnTo>
                        <a:lnTo>
                          <a:pt x="123" y="41"/>
                        </a:lnTo>
                        <a:lnTo>
                          <a:pt x="133" y="58"/>
                        </a:lnTo>
                        <a:lnTo>
                          <a:pt x="140" y="71"/>
                        </a:lnTo>
                        <a:lnTo>
                          <a:pt x="152" y="83"/>
                        </a:lnTo>
                        <a:lnTo>
                          <a:pt x="169" y="88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H="1">
                    <a:off x="8679600" y="2055240"/>
                    <a:ext cx="2700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44">
                        <a:moveTo>
                          <a:pt x="47" y="0"/>
                        </a:moveTo>
                        <a:lnTo>
                          <a:pt x="36" y="8"/>
                        </a:lnTo>
                        <a:lnTo>
                          <a:pt x="25" y="22"/>
                        </a:lnTo>
                        <a:lnTo>
                          <a:pt x="14" y="39"/>
                        </a:lnTo>
                        <a:lnTo>
                          <a:pt x="7" y="57"/>
                        </a:lnTo>
                        <a:lnTo>
                          <a:pt x="2" y="75"/>
                        </a:lnTo>
                        <a:lnTo>
                          <a:pt x="0" y="95"/>
                        </a:lnTo>
                        <a:lnTo>
                          <a:pt x="0" y="113"/>
                        </a:lnTo>
                        <a:lnTo>
                          <a:pt x="3" y="134"/>
                        </a:lnTo>
                        <a:lnTo>
                          <a:pt x="7" y="144"/>
                        </a:lnTo>
                        <a:lnTo>
                          <a:pt x="17" y="135"/>
                        </a:lnTo>
                        <a:lnTo>
                          <a:pt x="24" y="125"/>
                        </a:lnTo>
                        <a:lnTo>
                          <a:pt x="32" y="112"/>
                        </a:lnTo>
                        <a:lnTo>
                          <a:pt x="38" y="100"/>
                        </a:lnTo>
                        <a:lnTo>
                          <a:pt x="44" y="84"/>
                        </a:lnTo>
                        <a:lnTo>
                          <a:pt x="48" y="69"/>
                        </a:lnTo>
                        <a:lnTo>
                          <a:pt x="52" y="48"/>
                        </a:lnTo>
                        <a:lnTo>
                          <a:pt x="53" y="32"/>
                        </a:lnTo>
                        <a:lnTo>
                          <a:pt x="51" y="14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dfd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54" name=""/>
          <p:cNvGrpSpPr/>
          <p:nvPr/>
        </p:nvGrpSpPr>
        <p:grpSpPr>
          <a:xfrm>
            <a:off x="8229960" y="2266920"/>
            <a:ext cx="1434600" cy="1090800"/>
            <a:chOff x="8229960" y="2266920"/>
            <a:chExt cx="1434600" cy="1090800"/>
          </a:xfrm>
        </p:grpSpPr>
        <p:grpSp>
          <p:nvGrpSpPr>
            <p:cNvPr id="155" name=""/>
            <p:cNvGrpSpPr/>
            <p:nvPr/>
          </p:nvGrpSpPr>
          <p:grpSpPr>
            <a:xfrm>
              <a:off x="8415720" y="2855880"/>
              <a:ext cx="742680" cy="501840"/>
              <a:chOff x="8415720" y="2855880"/>
              <a:chExt cx="742680" cy="501840"/>
            </a:xfrm>
          </p:grpSpPr>
          <p:sp>
            <p:nvSpPr>
              <p:cNvPr id="156" name=""/>
              <p:cNvSpPr/>
              <p:nvPr/>
            </p:nvSpPr>
            <p:spPr>
              <a:xfrm flipH="1">
                <a:off x="8415360" y="2860920"/>
                <a:ext cx="742680" cy="496800"/>
              </a:xfrm>
              <a:custGeom>
                <a:avLst/>
                <a:gdLst/>
                <a:ahLst/>
                <a:rect l="l" t="t" r="r" b="b"/>
                <a:pathLst>
                  <a:path w="1403" h="1256">
                    <a:moveTo>
                      <a:pt x="1403" y="1253"/>
                    </a:moveTo>
                    <a:lnTo>
                      <a:pt x="1403" y="604"/>
                    </a:lnTo>
                    <a:lnTo>
                      <a:pt x="1382" y="86"/>
                    </a:lnTo>
                    <a:lnTo>
                      <a:pt x="671" y="0"/>
                    </a:lnTo>
                    <a:lnTo>
                      <a:pt x="22" y="77"/>
                    </a:lnTo>
                    <a:lnTo>
                      <a:pt x="19" y="260"/>
                    </a:lnTo>
                    <a:lnTo>
                      <a:pt x="0" y="1248"/>
                    </a:lnTo>
                    <a:lnTo>
                      <a:pt x="144" y="1248"/>
                    </a:lnTo>
                    <a:lnTo>
                      <a:pt x="144" y="354"/>
                    </a:lnTo>
                    <a:lnTo>
                      <a:pt x="422" y="332"/>
                    </a:lnTo>
                    <a:lnTo>
                      <a:pt x="1272" y="332"/>
                    </a:lnTo>
                    <a:lnTo>
                      <a:pt x="1284" y="1256"/>
                    </a:lnTo>
                    <a:lnTo>
                      <a:pt x="1403" y="1253"/>
                    </a:lnTo>
                    <a:close/>
                  </a:path>
                </a:pathLst>
              </a:custGeom>
              <a:solidFill>
                <a:srgbClr val="000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8812800" y="2855880"/>
                <a:ext cx="288360" cy="127080"/>
              </a:xfrm>
              <a:custGeom>
                <a:avLst/>
                <a:gdLst/>
                <a:ahLst/>
                <a:rect l="l" t="t" r="r" b="b"/>
                <a:pathLst>
                  <a:path w="548" h="319">
                    <a:moveTo>
                      <a:pt x="102" y="62"/>
                    </a:moveTo>
                    <a:lnTo>
                      <a:pt x="175" y="50"/>
                    </a:lnTo>
                    <a:lnTo>
                      <a:pt x="242" y="0"/>
                    </a:lnTo>
                    <a:lnTo>
                      <a:pt x="313" y="75"/>
                    </a:lnTo>
                    <a:lnTo>
                      <a:pt x="533" y="221"/>
                    </a:lnTo>
                    <a:lnTo>
                      <a:pt x="548" y="275"/>
                    </a:lnTo>
                    <a:lnTo>
                      <a:pt x="421" y="319"/>
                    </a:lnTo>
                    <a:lnTo>
                      <a:pt x="0" y="99"/>
                    </a:lnTo>
                    <a:lnTo>
                      <a:pt x="102" y="62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8229960" y="2406600"/>
              <a:ext cx="693360" cy="747720"/>
              <a:chOff x="8229960" y="2406600"/>
              <a:chExt cx="693360" cy="74772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8229960" y="2406600"/>
                <a:ext cx="693360" cy="569880"/>
                <a:chOff x="8229960" y="2406600"/>
                <a:chExt cx="693360" cy="569880"/>
              </a:xfrm>
            </p:grpSpPr>
            <p:sp>
              <p:nvSpPr>
                <p:cNvPr id="160" name=""/>
                <p:cNvSpPr/>
                <p:nvPr/>
              </p:nvSpPr>
              <p:spPr>
                <a:xfrm flipH="1">
                  <a:off x="8229960" y="2406600"/>
                  <a:ext cx="693360" cy="569880"/>
                </a:xfrm>
                <a:custGeom>
                  <a:avLst/>
                  <a:gdLst/>
                  <a:ahLst/>
                  <a:rect l="l" t="t" r="r" b="b"/>
                  <a:pathLst>
                    <a:path w="1310" h="1436">
                      <a:moveTo>
                        <a:pt x="245" y="291"/>
                      </a:moveTo>
                      <a:lnTo>
                        <a:pt x="276" y="192"/>
                      </a:lnTo>
                      <a:lnTo>
                        <a:pt x="297" y="129"/>
                      </a:lnTo>
                      <a:lnTo>
                        <a:pt x="304" y="111"/>
                      </a:lnTo>
                      <a:lnTo>
                        <a:pt x="316" y="95"/>
                      </a:lnTo>
                      <a:lnTo>
                        <a:pt x="323" y="87"/>
                      </a:lnTo>
                      <a:lnTo>
                        <a:pt x="337" y="82"/>
                      </a:lnTo>
                      <a:lnTo>
                        <a:pt x="502" y="47"/>
                      </a:lnTo>
                      <a:lnTo>
                        <a:pt x="681" y="13"/>
                      </a:lnTo>
                      <a:lnTo>
                        <a:pt x="841" y="0"/>
                      </a:lnTo>
                      <a:lnTo>
                        <a:pt x="933" y="0"/>
                      </a:lnTo>
                      <a:lnTo>
                        <a:pt x="1124" y="12"/>
                      </a:lnTo>
                      <a:lnTo>
                        <a:pt x="1262" y="18"/>
                      </a:lnTo>
                      <a:lnTo>
                        <a:pt x="1282" y="21"/>
                      </a:lnTo>
                      <a:lnTo>
                        <a:pt x="1295" y="27"/>
                      </a:lnTo>
                      <a:lnTo>
                        <a:pt x="1304" y="34"/>
                      </a:lnTo>
                      <a:lnTo>
                        <a:pt x="1310" y="44"/>
                      </a:lnTo>
                      <a:lnTo>
                        <a:pt x="1310" y="57"/>
                      </a:lnTo>
                      <a:lnTo>
                        <a:pt x="1303" y="96"/>
                      </a:lnTo>
                      <a:lnTo>
                        <a:pt x="1276" y="226"/>
                      </a:lnTo>
                      <a:lnTo>
                        <a:pt x="1256" y="322"/>
                      </a:lnTo>
                      <a:lnTo>
                        <a:pt x="1212" y="539"/>
                      </a:lnTo>
                      <a:lnTo>
                        <a:pt x="1183" y="673"/>
                      </a:lnTo>
                      <a:lnTo>
                        <a:pt x="1105" y="987"/>
                      </a:lnTo>
                      <a:lnTo>
                        <a:pt x="1030" y="1237"/>
                      </a:lnTo>
                      <a:lnTo>
                        <a:pt x="1015" y="1285"/>
                      </a:lnTo>
                      <a:lnTo>
                        <a:pt x="1007" y="1313"/>
                      </a:lnTo>
                      <a:lnTo>
                        <a:pt x="1000" y="1339"/>
                      </a:lnTo>
                      <a:lnTo>
                        <a:pt x="991" y="1354"/>
                      </a:lnTo>
                      <a:lnTo>
                        <a:pt x="978" y="1371"/>
                      </a:lnTo>
                      <a:lnTo>
                        <a:pt x="965" y="1378"/>
                      </a:lnTo>
                      <a:lnTo>
                        <a:pt x="940" y="1384"/>
                      </a:lnTo>
                      <a:lnTo>
                        <a:pt x="896" y="1388"/>
                      </a:lnTo>
                      <a:lnTo>
                        <a:pt x="821" y="1388"/>
                      </a:lnTo>
                      <a:lnTo>
                        <a:pt x="758" y="1396"/>
                      </a:lnTo>
                      <a:lnTo>
                        <a:pt x="675" y="1410"/>
                      </a:lnTo>
                      <a:lnTo>
                        <a:pt x="589" y="1426"/>
                      </a:lnTo>
                      <a:lnTo>
                        <a:pt x="531" y="1436"/>
                      </a:lnTo>
                      <a:lnTo>
                        <a:pt x="459" y="1436"/>
                      </a:lnTo>
                      <a:lnTo>
                        <a:pt x="444" y="1426"/>
                      </a:lnTo>
                      <a:lnTo>
                        <a:pt x="40" y="1140"/>
                      </a:lnTo>
                      <a:lnTo>
                        <a:pt x="20" y="1122"/>
                      </a:lnTo>
                      <a:lnTo>
                        <a:pt x="6" y="1102"/>
                      </a:lnTo>
                      <a:lnTo>
                        <a:pt x="0" y="1080"/>
                      </a:lnTo>
                      <a:lnTo>
                        <a:pt x="0" y="1054"/>
                      </a:lnTo>
                      <a:lnTo>
                        <a:pt x="6" y="1031"/>
                      </a:lnTo>
                      <a:lnTo>
                        <a:pt x="121" y="677"/>
                      </a:lnTo>
                      <a:lnTo>
                        <a:pt x="194" y="454"/>
                      </a:lnTo>
                      <a:lnTo>
                        <a:pt x="245" y="29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8474760" y="2463840"/>
                  <a:ext cx="412560" cy="433440"/>
                </a:xfrm>
                <a:custGeom>
                  <a:avLst/>
                  <a:gdLst/>
                  <a:ahLst/>
                  <a:rect l="l" t="t" r="r" b="b"/>
                  <a:pathLst>
                    <a:path w="778" h="1090">
                      <a:moveTo>
                        <a:pt x="177" y="326"/>
                      </a:moveTo>
                      <a:lnTo>
                        <a:pt x="234" y="168"/>
                      </a:lnTo>
                      <a:lnTo>
                        <a:pt x="283" y="29"/>
                      </a:lnTo>
                      <a:lnTo>
                        <a:pt x="291" y="22"/>
                      </a:lnTo>
                      <a:lnTo>
                        <a:pt x="299" y="20"/>
                      </a:lnTo>
                      <a:lnTo>
                        <a:pt x="316" y="18"/>
                      </a:lnTo>
                      <a:lnTo>
                        <a:pt x="539" y="1"/>
                      </a:lnTo>
                      <a:lnTo>
                        <a:pt x="756" y="0"/>
                      </a:lnTo>
                      <a:lnTo>
                        <a:pt x="769" y="3"/>
                      </a:lnTo>
                      <a:lnTo>
                        <a:pt x="774" y="7"/>
                      </a:lnTo>
                      <a:lnTo>
                        <a:pt x="778" y="20"/>
                      </a:lnTo>
                      <a:lnTo>
                        <a:pt x="762" y="118"/>
                      </a:lnTo>
                      <a:lnTo>
                        <a:pt x="728" y="204"/>
                      </a:lnTo>
                      <a:lnTo>
                        <a:pt x="670" y="361"/>
                      </a:lnTo>
                      <a:lnTo>
                        <a:pt x="559" y="630"/>
                      </a:lnTo>
                      <a:lnTo>
                        <a:pt x="463" y="864"/>
                      </a:lnTo>
                      <a:lnTo>
                        <a:pt x="438" y="953"/>
                      </a:lnTo>
                      <a:lnTo>
                        <a:pt x="424" y="1012"/>
                      </a:lnTo>
                      <a:lnTo>
                        <a:pt x="408" y="1046"/>
                      </a:lnTo>
                      <a:lnTo>
                        <a:pt x="393" y="1071"/>
                      </a:lnTo>
                      <a:lnTo>
                        <a:pt x="384" y="1083"/>
                      </a:lnTo>
                      <a:lnTo>
                        <a:pt x="375" y="1089"/>
                      </a:lnTo>
                      <a:lnTo>
                        <a:pt x="362" y="1090"/>
                      </a:lnTo>
                      <a:lnTo>
                        <a:pt x="349" y="1087"/>
                      </a:lnTo>
                      <a:lnTo>
                        <a:pt x="327" y="1074"/>
                      </a:lnTo>
                      <a:lnTo>
                        <a:pt x="303" y="1055"/>
                      </a:lnTo>
                      <a:lnTo>
                        <a:pt x="281" y="1033"/>
                      </a:lnTo>
                      <a:lnTo>
                        <a:pt x="254" y="1012"/>
                      </a:lnTo>
                      <a:lnTo>
                        <a:pt x="230" y="993"/>
                      </a:lnTo>
                      <a:lnTo>
                        <a:pt x="11" y="897"/>
                      </a:lnTo>
                      <a:lnTo>
                        <a:pt x="3" y="890"/>
                      </a:lnTo>
                      <a:lnTo>
                        <a:pt x="0" y="881"/>
                      </a:lnTo>
                      <a:lnTo>
                        <a:pt x="2" y="868"/>
                      </a:lnTo>
                      <a:lnTo>
                        <a:pt x="6" y="857"/>
                      </a:lnTo>
                      <a:lnTo>
                        <a:pt x="177" y="326"/>
                      </a:lnTo>
                      <a:close/>
                    </a:path>
                  </a:pathLst>
                </a:custGeom>
                <a:solidFill>
                  <a:srgbClr val="005f5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8316360" y="2908440"/>
                <a:ext cx="109080" cy="245880"/>
                <a:chOff x="8316360" y="2908440"/>
                <a:chExt cx="109080" cy="245880"/>
              </a:xfrm>
            </p:grpSpPr>
            <p:sp>
              <p:nvSpPr>
                <p:cNvPr id="163" name=""/>
                <p:cNvSpPr/>
                <p:nvPr/>
              </p:nvSpPr>
              <p:spPr>
                <a:xfrm flipH="1">
                  <a:off x="8316000" y="2917800"/>
                  <a:ext cx="99720" cy="236520"/>
                </a:xfrm>
                <a:custGeom>
                  <a:avLst/>
                  <a:gdLst/>
                  <a:ahLst/>
                  <a:rect l="l" t="t" r="r" b="b"/>
                  <a:pathLst>
                    <a:path w="190" h="595">
                      <a:moveTo>
                        <a:pt x="0" y="0"/>
                      </a:moveTo>
                      <a:lnTo>
                        <a:pt x="6" y="39"/>
                      </a:lnTo>
                      <a:lnTo>
                        <a:pt x="15" y="69"/>
                      </a:lnTo>
                      <a:lnTo>
                        <a:pt x="31" y="96"/>
                      </a:lnTo>
                      <a:lnTo>
                        <a:pt x="56" y="113"/>
                      </a:lnTo>
                      <a:lnTo>
                        <a:pt x="88" y="126"/>
                      </a:lnTo>
                      <a:lnTo>
                        <a:pt x="112" y="149"/>
                      </a:lnTo>
                      <a:lnTo>
                        <a:pt x="132" y="178"/>
                      </a:lnTo>
                      <a:lnTo>
                        <a:pt x="153" y="226"/>
                      </a:lnTo>
                      <a:lnTo>
                        <a:pt x="160" y="266"/>
                      </a:lnTo>
                      <a:lnTo>
                        <a:pt x="154" y="297"/>
                      </a:lnTo>
                      <a:lnTo>
                        <a:pt x="132" y="326"/>
                      </a:lnTo>
                      <a:lnTo>
                        <a:pt x="113" y="352"/>
                      </a:lnTo>
                      <a:lnTo>
                        <a:pt x="100" y="379"/>
                      </a:lnTo>
                      <a:lnTo>
                        <a:pt x="90" y="414"/>
                      </a:lnTo>
                      <a:lnTo>
                        <a:pt x="85" y="455"/>
                      </a:lnTo>
                      <a:lnTo>
                        <a:pt x="95" y="491"/>
                      </a:lnTo>
                      <a:lnTo>
                        <a:pt x="108" y="516"/>
                      </a:lnTo>
                      <a:lnTo>
                        <a:pt x="137" y="548"/>
                      </a:lnTo>
                      <a:lnTo>
                        <a:pt x="160" y="570"/>
                      </a:lnTo>
                      <a:lnTo>
                        <a:pt x="190" y="595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>
                  <a:off x="8406720" y="2908440"/>
                  <a:ext cx="18720" cy="1440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8872920" y="2266920"/>
              <a:ext cx="791640" cy="1076400"/>
              <a:chOff x="8872920" y="2266920"/>
              <a:chExt cx="791640" cy="1076400"/>
            </a:xfrm>
          </p:grpSpPr>
          <p:sp>
            <p:nvSpPr>
              <p:cNvPr id="166" name=""/>
              <p:cNvSpPr/>
              <p:nvPr/>
            </p:nvSpPr>
            <p:spPr>
              <a:xfrm flipH="1">
                <a:off x="9204480" y="2752920"/>
                <a:ext cx="460080" cy="590400"/>
              </a:xfrm>
              <a:custGeom>
                <a:avLst/>
                <a:gdLst/>
                <a:ahLst/>
                <a:rect l="l" t="t" r="r" b="b"/>
                <a:pathLst>
                  <a:path w="869" h="1488">
                    <a:moveTo>
                      <a:pt x="869" y="700"/>
                    </a:moveTo>
                    <a:lnTo>
                      <a:pt x="622" y="550"/>
                    </a:lnTo>
                    <a:lnTo>
                      <a:pt x="349" y="28"/>
                    </a:lnTo>
                    <a:lnTo>
                      <a:pt x="337" y="19"/>
                    </a:lnTo>
                    <a:lnTo>
                      <a:pt x="318" y="9"/>
                    </a:lnTo>
                    <a:lnTo>
                      <a:pt x="296" y="4"/>
                    </a:lnTo>
                    <a:lnTo>
                      <a:pt x="267" y="0"/>
                    </a:lnTo>
                    <a:lnTo>
                      <a:pt x="240" y="4"/>
                    </a:lnTo>
                    <a:lnTo>
                      <a:pt x="215" y="14"/>
                    </a:lnTo>
                    <a:lnTo>
                      <a:pt x="186" y="28"/>
                    </a:lnTo>
                    <a:lnTo>
                      <a:pt x="149" y="49"/>
                    </a:lnTo>
                    <a:lnTo>
                      <a:pt x="117" y="71"/>
                    </a:lnTo>
                    <a:lnTo>
                      <a:pt x="91" y="92"/>
                    </a:lnTo>
                    <a:lnTo>
                      <a:pt x="70" y="113"/>
                    </a:lnTo>
                    <a:lnTo>
                      <a:pt x="51" y="138"/>
                    </a:lnTo>
                    <a:lnTo>
                      <a:pt x="28" y="174"/>
                    </a:lnTo>
                    <a:lnTo>
                      <a:pt x="15" y="201"/>
                    </a:lnTo>
                    <a:lnTo>
                      <a:pt x="2" y="239"/>
                    </a:lnTo>
                    <a:lnTo>
                      <a:pt x="0" y="282"/>
                    </a:lnTo>
                    <a:lnTo>
                      <a:pt x="0" y="346"/>
                    </a:lnTo>
                    <a:lnTo>
                      <a:pt x="7" y="420"/>
                    </a:lnTo>
                    <a:lnTo>
                      <a:pt x="21" y="489"/>
                    </a:lnTo>
                    <a:lnTo>
                      <a:pt x="44" y="572"/>
                    </a:lnTo>
                    <a:lnTo>
                      <a:pt x="68" y="642"/>
                    </a:lnTo>
                    <a:lnTo>
                      <a:pt x="88" y="689"/>
                    </a:lnTo>
                    <a:lnTo>
                      <a:pt x="118" y="738"/>
                    </a:lnTo>
                    <a:lnTo>
                      <a:pt x="141" y="772"/>
                    </a:lnTo>
                    <a:lnTo>
                      <a:pt x="167" y="811"/>
                    </a:lnTo>
                    <a:lnTo>
                      <a:pt x="197" y="851"/>
                    </a:lnTo>
                    <a:lnTo>
                      <a:pt x="225" y="874"/>
                    </a:lnTo>
                    <a:lnTo>
                      <a:pt x="339" y="860"/>
                    </a:lnTo>
                    <a:lnTo>
                      <a:pt x="426" y="829"/>
                    </a:lnTo>
                    <a:lnTo>
                      <a:pt x="481" y="846"/>
                    </a:lnTo>
                    <a:lnTo>
                      <a:pt x="609" y="852"/>
                    </a:lnTo>
                    <a:lnTo>
                      <a:pt x="766" y="829"/>
                    </a:lnTo>
                    <a:lnTo>
                      <a:pt x="789" y="884"/>
                    </a:lnTo>
                    <a:lnTo>
                      <a:pt x="789" y="1276"/>
                    </a:lnTo>
                    <a:lnTo>
                      <a:pt x="785" y="1312"/>
                    </a:lnTo>
                    <a:lnTo>
                      <a:pt x="779" y="1336"/>
                    </a:lnTo>
                    <a:lnTo>
                      <a:pt x="769" y="1361"/>
                    </a:lnTo>
                    <a:lnTo>
                      <a:pt x="755" y="1379"/>
                    </a:lnTo>
                    <a:lnTo>
                      <a:pt x="738" y="1396"/>
                    </a:lnTo>
                    <a:lnTo>
                      <a:pt x="718" y="1407"/>
                    </a:lnTo>
                    <a:lnTo>
                      <a:pt x="702" y="1413"/>
                    </a:lnTo>
                    <a:lnTo>
                      <a:pt x="680" y="1416"/>
                    </a:lnTo>
                    <a:lnTo>
                      <a:pt x="91" y="1415"/>
                    </a:lnTo>
                    <a:lnTo>
                      <a:pt x="91" y="1488"/>
                    </a:lnTo>
                    <a:lnTo>
                      <a:pt x="696" y="1485"/>
                    </a:lnTo>
                    <a:lnTo>
                      <a:pt x="727" y="1484"/>
                    </a:lnTo>
                    <a:lnTo>
                      <a:pt x="747" y="1480"/>
                    </a:lnTo>
                    <a:lnTo>
                      <a:pt x="770" y="1474"/>
                    </a:lnTo>
                    <a:lnTo>
                      <a:pt x="790" y="1465"/>
                    </a:lnTo>
                    <a:lnTo>
                      <a:pt x="809" y="1448"/>
                    </a:lnTo>
                    <a:lnTo>
                      <a:pt x="828" y="1420"/>
                    </a:lnTo>
                    <a:lnTo>
                      <a:pt x="842" y="1396"/>
                    </a:lnTo>
                    <a:lnTo>
                      <a:pt x="854" y="1370"/>
                    </a:lnTo>
                    <a:lnTo>
                      <a:pt x="861" y="1340"/>
                    </a:lnTo>
                    <a:lnTo>
                      <a:pt x="867" y="1306"/>
                    </a:lnTo>
                    <a:lnTo>
                      <a:pt x="869" y="1267"/>
                    </a:lnTo>
                    <a:lnTo>
                      <a:pt x="869" y="700"/>
                    </a:lnTo>
                    <a:close/>
                  </a:path>
                </a:pathLst>
              </a:custGeom>
              <a:solidFill>
                <a:srgbClr val="000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8872920" y="2266920"/>
                <a:ext cx="699840" cy="1069920"/>
                <a:chOff x="8872920" y="2266920"/>
                <a:chExt cx="699840" cy="1069920"/>
              </a:xfrm>
            </p:grpSpPr>
            <p:sp>
              <p:nvSpPr>
                <p:cNvPr id="168" name=""/>
                <p:cNvSpPr/>
                <p:nvPr/>
              </p:nvSpPr>
              <p:spPr>
                <a:xfrm flipH="1">
                  <a:off x="8872920" y="2266920"/>
                  <a:ext cx="699840" cy="1069920"/>
                </a:xfrm>
                <a:custGeom>
                  <a:avLst/>
                  <a:gdLst/>
                  <a:ahLst/>
                  <a:rect l="l" t="t" r="r" b="b"/>
                  <a:pathLst>
                    <a:path w="1323" h="2697">
                      <a:moveTo>
                        <a:pt x="453" y="577"/>
                      </a:moveTo>
                      <a:lnTo>
                        <a:pt x="488" y="455"/>
                      </a:lnTo>
                      <a:lnTo>
                        <a:pt x="518" y="311"/>
                      </a:lnTo>
                      <a:lnTo>
                        <a:pt x="533" y="186"/>
                      </a:lnTo>
                      <a:lnTo>
                        <a:pt x="502" y="116"/>
                      </a:lnTo>
                      <a:lnTo>
                        <a:pt x="472" y="82"/>
                      </a:lnTo>
                      <a:lnTo>
                        <a:pt x="518" y="121"/>
                      </a:lnTo>
                      <a:lnTo>
                        <a:pt x="553" y="182"/>
                      </a:lnTo>
                      <a:lnTo>
                        <a:pt x="525" y="43"/>
                      </a:lnTo>
                      <a:lnTo>
                        <a:pt x="550" y="109"/>
                      </a:lnTo>
                      <a:lnTo>
                        <a:pt x="600" y="195"/>
                      </a:lnTo>
                      <a:lnTo>
                        <a:pt x="623" y="206"/>
                      </a:lnTo>
                      <a:lnTo>
                        <a:pt x="607" y="132"/>
                      </a:lnTo>
                      <a:lnTo>
                        <a:pt x="620" y="141"/>
                      </a:lnTo>
                      <a:lnTo>
                        <a:pt x="626" y="78"/>
                      </a:lnTo>
                      <a:lnTo>
                        <a:pt x="609" y="12"/>
                      </a:lnTo>
                      <a:lnTo>
                        <a:pt x="688" y="187"/>
                      </a:lnTo>
                      <a:lnTo>
                        <a:pt x="694" y="159"/>
                      </a:lnTo>
                      <a:lnTo>
                        <a:pt x="705" y="180"/>
                      </a:lnTo>
                      <a:lnTo>
                        <a:pt x="709" y="152"/>
                      </a:lnTo>
                      <a:lnTo>
                        <a:pt x="692" y="108"/>
                      </a:lnTo>
                      <a:lnTo>
                        <a:pt x="696" y="24"/>
                      </a:lnTo>
                      <a:lnTo>
                        <a:pt x="723" y="187"/>
                      </a:lnTo>
                      <a:lnTo>
                        <a:pt x="738" y="39"/>
                      </a:lnTo>
                      <a:lnTo>
                        <a:pt x="738" y="155"/>
                      </a:lnTo>
                      <a:lnTo>
                        <a:pt x="752" y="184"/>
                      </a:lnTo>
                      <a:lnTo>
                        <a:pt x="775" y="54"/>
                      </a:lnTo>
                      <a:lnTo>
                        <a:pt x="826" y="0"/>
                      </a:lnTo>
                      <a:lnTo>
                        <a:pt x="792" y="54"/>
                      </a:lnTo>
                      <a:lnTo>
                        <a:pt x="772" y="156"/>
                      </a:lnTo>
                      <a:lnTo>
                        <a:pt x="779" y="174"/>
                      </a:lnTo>
                      <a:lnTo>
                        <a:pt x="814" y="102"/>
                      </a:lnTo>
                      <a:lnTo>
                        <a:pt x="790" y="164"/>
                      </a:lnTo>
                      <a:lnTo>
                        <a:pt x="790" y="191"/>
                      </a:lnTo>
                      <a:lnTo>
                        <a:pt x="865" y="39"/>
                      </a:lnTo>
                      <a:lnTo>
                        <a:pt x="866" y="65"/>
                      </a:lnTo>
                      <a:lnTo>
                        <a:pt x="832" y="152"/>
                      </a:lnTo>
                      <a:lnTo>
                        <a:pt x="832" y="206"/>
                      </a:lnTo>
                      <a:lnTo>
                        <a:pt x="844" y="213"/>
                      </a:lnTo>
                      <a:lnTo>
                        <a:pt x="861" y="117"/>
                      </a:lnTo>
                      <a:lnTo>
                        <a:pt x="894" y="51"/>
                      </a:lnTo>
                      <a:lnTo>
                        <a:pt x="866" y="125"/>
                      </a:lnTo>
                      <a:lnTo>
                        <a:pt x="873" y="225"/>
                      </a:lnTo>
                      <a:lnTo>
                        <a:pt x="891" y="219"/>
                      </a:lnTo>
                      <a:lnTo>
                        <a:pt x="926" y="89"/>
                      </a:lnTo>
                      <a:lnTo>
                        <a:pt x="901" y="229"/>
                      </a:lnTo>
                      <a:lnTo>
                        <a:pt x="959" y="116"/>
                      </a:lnTo>
                      <a:lnTo>
                        <a:pt x="1006" y="78"/>
                      </a:lnTo>
                      <a:lnTo>
                        <a:pt x="967" y="133"/>
                      </a:lnTo>
                      <a:lnTo>
                        <a:pt x="941" y="191"/>
                      </a:lnTo>
                      <a:lnTo>
                        <a:pt x="985" y="172"/>
                      </a:lnTo>
                      <a:lnTo>
                        <a:pt x="930" y="215"/>
                      </a:lnTo>
                      <a:lnTo>
                        <a:pt x="920" y="260"/>
                      </a:lnTo>
                      <a:lnTo>
                        <a:pt x="938" y="268"/>
                      </a:lnTo>
                      <a:lnTo>
                        <a:pt x="993" y="176"/>
                      </a:lnTo>
                      <a:lnTo>
                        <a:pt x="1060" y="121"/>
                      </a:lnTo>
                      <a:lnTo>
                        <a:pt x="971" y="245"/>
                      </a:lnTo>
                      <a:lnTo>
                        <a:pt x="1014" y="206"/>
                      </a:lnTo>
                      <a:lnTo>
                        <a:pt x="1241" y="167"/>
                      </a:lnTo>
                      <a:lnTo>
                        <a:pt x="1002" y="226"/>
                      </a:lnTo>
                      <a:lnTo>
                        <a:pt x="978" y="269"/>
                      </a:lnTo>
                      <a:lnTo>
                        <a:pt x="1002" y="262"/>
                      </a:lnTo>
                      <a:lnTo>
                        <a:pt x="1071" y="223"/>
                      </a:lnTo>
                      <a:lnTo>
                        <a:pt x="1017" y="281"/>
                      </a:lnTo>
                      <a:lnTo>
                        <a:pt x="973" y="308"/>
                      </a:lnTo>
                      <a:lnTo>
                        <a:pt x="973" y="343"/>
                      </a:lnTo>
                      <a:lnTo>
                        <a:pt x="985" y="371"/>
                      </a:lnTo>
                      <a:lnTo>
                        <a:pt x="1010" y="401"/>
                      </a:lnTo>
                      <a:lnTo>
                        <a:pt x="1039" y="443"/>
                      </a:lnTo>
                      <a:lnTo>
                        <a:pt x="1064" y="480"/>
                      </a:lnTo>
                      <a:lnTo>
                        <a:pt x="1089" y="518"/>
                      </a:lnTo>
                      <a:lnTo>
                        <a:pt x="1112" y="554"/>
                      </a:lnTo>
                      <a:lnTo>
                        <a:pt x="1128" y="583"/>
                      </a:lnTo>
                      <a:lnTo>
                        <a:pt x="1154" y="632"/>
                      </a:lnTo>
                      <a:lnTo>
                        <a:pt x="1182" y="689"/>
                      </a:lnTo>
                      <a:lnTo>
                        <a:pt x="1203" y="738"/>
                      </a:lnTo>
                      <a:lnTo>
                        <a:pt x="1202" y="749"/>
                      </a:lnTo>
                      <a:lnTo>
                        <a:pt x="1197" y="761"/>
                      </a:lnTo>
                      <a:lnTo>
                        <a:pt x="1189" y="768"/>
                      </a:lnTo>
                      <a:lnTo>
                        <a:pt x="1179" y="772"/>
                      </a:lnTo>
                      <a:lnTo>
                        <a:pt x="1163" y="775"/>
                      </a:lnTo>
                      <a:lnTo>
                        <a:pt x="999" y="759"/>
                      </a:lnTo>
                      <a:lnTo>
                        <a:pt x="987" y="796"/>
                      </a:lnTo>
                      <a:lnTo>
                        <a:pt x="964" y="920"/>
                      </a:lnTo>
                      <a:lnTo>
                        <a:pt x="948" y="1009"/>
                      </a:lnTo>
                      <a:lnTo>
                        <a:pt x="927" y="1082"/>
                      </a:lnTo>
                      <a:lnTo>
                        <a:pt x="917" y="1088"/>
                      </a:lnTo>
                      <a:lnTo>
                        <a:pt x="902" y="1092"/>
                      </a:lnTo>
                      <a:lnTo>
                        <a:pt x="886" y="1095"/>
                      </a:lnTo>
                      <a:lnTo>
                        <a:pt x="832" y="1093"/>
                      </a:lnTo>
                      <a:lnTo>
                        <a:pt x="703" y="1036"/>
                      </a:lnTo>
                      <a:lnTo>
                        <a:pt x="691" y="1059"/>
                      </a:lnTo>
                      <a:lnTo>
                        <a:pt x="670" y="1148"/>
                      </a:lnTo>
                      <a:lnTo>
                        <a:pt x="655" y="1217"/>
                      </a:lnTo>
                      <a:lnTo>
                        <a:pt x="635" y="1309"/>
                      </a:lnTo>
                      <a:lnTo>
                        <a:pt x="630" y="1370"/>
                      </a:lnTo>
                      <a:lnTo>
                        <a:pt x="658" y="1410"/>
                      </a:lnTo>
                      <a:lnTo>
                        <a:pt x="693" y="1460"/>
                      </a:lnTo>
                      <a:lnTo>
                        <a:pt x="737" y="1526"/>
                      </a:lnTo>
                      <a:lnTo>
                        <a:pt x="802" y="1543"/>
                      </a:lnTo>
                      <a:lnTo>
                        <a:pt x="853" y="1555"/>
                      </a:lnTo>
                      <a:lnTo>
                        <a:pt x="925" y="1569"/>
                      </a:lnTo>
                      <a:lnTo>
                        <a:pt x="966" y="1577"/>
                      </a:lnTo>
                      <a:lnTo>
                        <a:pt x="1002" y="1579"/>
                      </a:lnTo>
                      <a:lnTo>
                        <a:pt x="1031" y="1583"/>
                      </a:lnTo>
                      <a:lnTo>
                        <a:pt x="1057" y="1583"/>
                      </a:lnTo>
                      <a:lnTo>
                        <a:pt x="1089" y="1579"/>
                      </a:lnTo>
                      <a:lnTo>
                        <a:pt x="1134" y="1577"/>
                      </a:lnTo>
                      <a:lnTo>
                        <a:pt x="1185" y="1547"/>
                      </a:lnTo>
                      <a:lnTo>
                        <a:pt x="1199" y="1540"/>
                      </a:lnTo>
                      <a:lnTo>
                        <a:pt x="1212" y="1542"/>
                      </a:lnTo>
                      <a:lnTo>
                        <a:pt x="1223" y="1548"/>
                      </a:lnTo>
                      <a:lnTo>
                        <a:pt x="1237" y="1564"/>
                      </a:lnTo>
                      <a:lnTo>
                        <a:pt x="1241" y="1575"/>
                      </a:lnTo>
                      <a:lnTo>
                        <a:pt x="1245" y="1596"/>
                      </a:lnTo>
                      <a:lnTo>
                        <a:pt x="1247" y="1620"/>
                      </a:lnTo>
                      <a:lnTo>
                        <a:pt x="1263" y="1627"/>
                      </a:lnTo>
                      <a:lnTo>
                        <a:pt x="1286" y="1642"/>
                      </a:lnTo>
                      <a:lnTo>
                        <a:pt x="1303" y="1655"/>
                      </a:lnTo>
                      <a:lnTo>
                        <a:pt x="1323" y="1673"/>
                      </a:lnTo>
                      <a:lnTo>
                        <a:pt x="1321" y="1686"/>
                      </a:lnTo>
                      <a:lnTo>
                        <a:pt x="1316" y="1704"/>
                      </a:lnTo>
                      <a:lnTo>
                        <a:pt x="1307" y="1716"/>
                      </a:lnTo>
                      <a:lnTo>
                        <a:pt x="1293" y="1727"/>
                      </a:lnTo>
                      <a:lnTo>
                        <a:pt x="1299" y="1739"/>
                      </a:lnTo>
                      <a:lnTo>
                        <a:pt x="1305" y="1755"/>
                      </a:lnTo>
                      <a:lnTo>
                        <a:pt x="1311" y="1776"/>
                      </a:lnTo>
                      <a:lnTo>
                        <a:pt x="1310" y="1791"/>
                      </a:lnTo>
                      <a:lnTo>
                        <a:pt x="1305" y="1811"/>
                      </a:lnTo>
                      <a:lnTo>
                        <a:pt x="1293" y="1821"/>
                      </a:lnTo>
                      <a:lnTo>
                        <a:pt x="1267" y="1839"/>
                      </a:lnTo>
                      <a:lnTo>
                        <a:pt x="1270" y="1865"/>
                      </a:lnTo>
                      <a:lnTo>
                        <a:pt x="1270" y="1881"/>
                      </a:lnTo>
                      <a:lnTo>
                        <a:pt x="1267" y="1891"/>
                      </a:lnTo>
                      <a:lnTo>
                        <a:pt x="1261" y="1899"/>
                      </a:lnTo>
                      <a:lnTo>
                        <a:pt x="1250" y="1904"/>
                      </a:lnTo>
                      <a:lnTo>
                        <a:pt x="1239" y="1902"/>
                      </a:lnTo>
                      <a:lnTo>
                        <a:pt x="1217" y="1893"/>
                      </a:lnTo>
                      <a:lnTo>
                        <a:pt x="1160" y="1869"/>
                      </a:lnTo>
                      <a:lnTo>
                        <a:pt x="1090" y="1839"/>
                      </a:lnTo>
                      <a:lnTo>
                        <a:pt x="993" y="1809"/>
                      </a:lnTo>
                      <a:lnTo>
                        <a:pt x="977" y="1809"/>
                      </a:lnTo>
                      <a:lnTo>
                        <a:pt x="920" y="1794"/>
                      </a:lnTo>
                      <a:lnTo>
                        <a:pt x="808" y="1761"/>
                      </a:lnTo>
                      <a:lnTo>
                        <a:pt x="715" y="1748"/>
                      </a:lnTo>
                      <a:lnTo>
                        <a:pt x="693" y="1751"/>
                      </a:lnTo>
                      <a:lnTo>
                        <a:pt x="645" y="1755"/>
                      </a:lnTo>
                      <a:lnTo>
                        <a:pt x="621" y="1731"/>
                      </a:lnTo>
                      <a:lnTo>
                        <a:pt x="604" y="1716"/>
                      </a:lnTo>
                      <a:lnTo>
                        <a:pt x="593" y="1703"/>
                      </a:lnTo>
                      <a:lnTo>
                        <a:pt x="586" y="1686"/>
                      </a:lnTo>
                      <a:lnTo>
                        <a:pt x="575" y="1665"/>
                      </a:lnTo>
                      <a:lnTo>
                        <a:pt x="519" y="1583"/>
                      </a:lnTo>
                      <a:lnTo>
                        <a:pt x="570" y="1656"/>
                      </a:lnTo>
                      <a:lnTo>
                        <a:pt x="588" y="1685"/>
                      </a:lnTo>
                      <a:lnTo>
                        <a:pt x="595" y="1708"/>
                      </a:lnTo>
                      <a:lnTo>
                        <a:pt x="641" y="1751"/>
                      </a:lnTo>
                      <a:lnTo>
                        <a:pt x="664" y="1756"/>
                      </a:lnTo>
                      <a:lnTo>
                        <a:pt x="696" y="1750"/>
                      </a:lnTo>
                      <a:lnTo>
                        <a:pt x="717" y="1751"/>
                      </a:lnTo>
                      <a:lnTo>
                        <a:pt x="757" y="1768"/>
                      </a:lnTo>
                      <a:lnTo>
                        <a:pt x="779" y="1787"/>
                      </a:lnTo>
                      <a:lnTo>
                        <a:pt x="799" y="1805"/>
                      </a:lnTo>
                      <a:lnTo>
                        <a:pt x="820" y="1833"/>
                      </a:lnTo>
                      <a:lnTo>
                        <a:pt x="828" y="1850"/>
                      </a:lnTo>
                      <a:lnTo>
                        <a:pt x="826" y="1867"/>
                      </a:lnTo>
                      <a:lnTo>
                        <a:pt x="813" y="1890"/>
                      </a:lnTo>
                      <a:lnTo>
                        <a:pt x="796" y="1916"/>
                      </a:lnTo>
                      <a:lnTo>
                        <a:pt x="762" y="1955"/>
                      </a:lnTo>
                      <a:lnTo>
                        <a:pt x="713" y="2008"/>
                      </a:lnTo>
                      <a:lnTo>
                        <a:pt x="680" y="2047"/>
                      </a:lnTo>
                      <a:lnTo>
                        <a:pt x="611" y="2094"/>
                      </a:lnTo>
                      <a:lnTo>
                        <a:pt x="510" y="2158"/>
                      </a:lnTo>
                      <a:lnTo>
                        <a:pt x="438" y="2198"/>
                      </a:lnTo>
                      <a:lnTo>
                        <a:pt x="420" y="2220"/>
                      </a:lnTo>
                      <a:lnTo>
                        <a:pt x="400" y="2243"/>
                      </a:lnTo>
                      <a:lnTo>
                        <a:pt x="362" y="2275"/>
                      </a:lnTo>
                      <a:lnTo>
                        <a:pt x="354" y="2319"/>
                      </a:lnTo>
                      <a:lnTo>
                        <a:pt x="354" y="2402"/>
                      </a:lnTo>
                      <a:lnTo>
                        <a:pt x="361" y="2471"/>
                      </a:lnTo>
                      <a:lnTo>
                        <a:pt x="373" y="2518"/>
                      </a:lnTo>
                      <a:lnTo>
                        <a:pt x="437" y="2607"/>
                      </a:lnTo>
                      <a:lnTo>
                        <a:pt x="476" y="2646"/>
                      </a:lnTo>
                      <a:lnTo>
                        <a:pt x="479" y="2658"/>
                      </a:lnTo>
                      <a:lnTo>
                        <a:pt x="477" y="2671"/>
                      </a:lnTo>
                      <a:lnTo>
                        <a:pt x="406" y="2697"/>
                      </a:lnTo>
                      <a:lnTo>
                        <a:pt x="329" y="2687"/>
                      </a:lnTo>
                      <a:lnTo>
                        <a:pt x="288" y="2684"/>
                      </a:lnTo>
                      <a:lnTo>
                        <a:pt x="248" y="2691"/>
                      </a:lnTo>
                      <a:lnTo>
                        <a:pt x="209" y="2691"/>
                      </a:lnTo>
                      <a:lnTo>
                        <a:pt x="169" y="2683"/>
                      </a:lnTo>
                      <a:lnTo>
                        <a:pt x="164" y="2676"/>
                      </a:lnTo>
                      <a:lnTo>
                        <a:pt x="158" y="2663"/>
                      </a:lnTo>
                      <a:lnTo>
                        <a:pt x="163" y="2522"/>
                      </a:lnTo>
                      <a:lnTo>
                        <a:pt x="182" y="2379"/>
                      </a:lnTo>
                      <a:lnTo>
                        <a:pt x="167" y="2333"/>
                      </a:lnTo>
                      <a:lnTo>
                        <a:pt x="140" y="2290"/>
                      </a:lnTo>
                      <a:lnTo>
                        <a:pt x="129" y="2279"/>
                      </a:lnTo>
                      <a:lnTo>
                        <a:pt x="108" y="2256"/>
                      </a:lnTo>
                      <a:lnTo>
                        <a:pt x="93" y="2243"/>
                      </a:lnTo>
                      <a:lnTo>
                        <a:pt x="91" y="2228"/>
                      </a:lnTo>
                      <a:lnTo>
                        <a:pt x="93" y="2215"/>
                      </a:lnTo>
                      <a:lnTo>
                        <a:pt x="112" y="2189"/>
                      </a:lnTo>
                      <a:lnTo>
                        <a:pt x="140" y="2162"/>
                      </a:lnTo>
                      <a:lnTo>
                        <a:pt x="164" y="2142"/>
                      </a:lnTo>
                      <a:lnTo>
                        <a:pt x="198" y="2141"/>
                      </a:lnTo>
                      <a:lnTo>
                        <a:pt x="228" y="2143"/>
                      </a:lnTo>
                      <a:lnTo>
                        <a:pt x="360" y="2050"/>
                      </a:lnTo>
                      <a:lnTo>
                        <a:pt x="460" y="1980"/>
                      </a:lnTo>
                      <a:lnTo>
                        <a:pt x="551" y="1922"/>
                      </a:lnTo>
                      <a:lnTo>
                        <a:pt x="522" y="1928"/>
                      </a:lnTo>
                      <a:lnTo>
                        <a:pt x="434" y="1900"/>
                      </a:lnTo>
                      <a:lnTo>
                        <a:pt x="344" y="1894"/>
                      </a:lnTo>
                      <a:lnTo>
                        <a:pt x="221" y="1873"/>
                      </a:lnTo>
                      <a:lnTo>
                        <a:pt x="182" y="1881"/>
                      </a:lnTo>
                      <a:lnTo>
                        <a:pt x="92" y="1869"/>
                      </a:lnTo>
                      <a:lnTo>
                        <a:pt x="71" y="1864"/>
                      </a:lnTo>
                      <a:lnTo>
                        <a:pt x="50" y="1855"/>
                      </a:lnTo>
                      <a:lnTo>
                        <a:pt x="33" y="1843"/>
                      </a:lnTo>
                      <a:lnTo>
                        <a:pt x="22" y="1829"/>
                      </a:lnTo>
                      <a:lnTo>
                        <a:pt x="12" y="1804"/>
                      </a:lnTo>
                      <a:lnTo>
                        <a:pt x="5" y="1770"/>
                      </a:lnTo>
                      <a:lnTo>
                        <a:pt x="1" y="1739"/>
                      </a:lnTo>
                      <a:lnTo>
                        <a:pt x="0" y="1696"/>
                      </a:lnTo>
                      <a:lnTo>
                        <a:pt x="3" y="1661"/>
                      </a:lnTo>
                      <a:lnTo>
                        <a:pt x="6" y="1622"/>
                      </a:lnTo>
                      <a:lnTo>
                        <a:pt x="11" y="1588"/>
                      </a:lnTo>
                      <a:lnTo>
                        <a:pt x="21" y="1562"/>
                      </a:lnTo>
                      <a:lnTo>
                        <a:pt x="52" y="1462"/>
                      </a:lnTo>
                      <a:lnTo>
                        <a:pt x="87" y="1342"/>
                      </a:lnTo>
                      <a:lnTo>
                        <a:pt x="112" y="1261"/>
                      </a:lnTo>
                      <a:lnTo>
                        <a:pt x="178" y="1126"/>
                      </a:lnTo>
                      <a:lnTo>
                        <a:pt x="243" y="1019"/>
                      </a:lnTo>
                      <a:lnTo>
                        <a:pt x="298" y="939"/>
                      </a:lnTo>
                      <a:lnTo>
                        <a:pt x="335" y="885"/>
                      </a:lnTo>
                      <a:lnTo>
                        <a:pt x="361" y="837"/>
                      </a:lnTo>
                      <a:lnTo>
                        <a:pt x="393" y="796"/>
                      </a:lnTo>
                      <a:lnTo>
                        <a:pt x="400" y="733"/>
                      </a:lnTo>
                      <a:lnTo>
                        <a:pt x="431" y="650"/>
                      </a:lnTo>
                      <a:lnTo>
                        <a:pt x="453" y="577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9073440" y="2397240"/>
                  <a:ext cx="88560" cy="98280"/>
                  <a:chOff x="9073440" y="2397240"/>
                  <a:chExt cx="88560" cy="982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flipH="1">
                    <a:off x="9073440" y="2397240"/>
                    <a:ext cx="885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88">
                        <a:moveTo>
                          <a:pt x="0" y="28"/>
                        </a:moveTo>
                        <a:lnTo>
                          <a:pt x="21" y="18"/>
                        </a:lnTo>
                        <a:lnTo>
                          <a:pt x="41" y="9"/>
                        </a:lnTo>
                        <a:lnTo>
                          <a:pt x="58" y="4"/>
                        </a:lnTo>
                        <a:lnTo>
                          <a:pt x="74" y="1"/>
                        </a:lnTo>
                        <a:lnTo>
                          <a:pt x="88" y="0"/>
                        </a:lnTo>
                        <a:lnTo>
                          <a:pt x="102" y="4"/>
                        </a:lnTo>
                        <a:lnTo>
                          <a:pt x="108" y="13"/>
                        </a:lnTo>
                        <a:lnTo>
                          <a:pt x="115" y="27"/>
                        </a:lnTo>
                        <a:lnTo>
                          <a:pt x="123" y="41"/>
                        </a:lnTo>
                        <a:lnTo>
                          <a:pt x="133" y="58"/>
                        </a:lnTo>
                        <a:lnTo>
                          <a:pt x="140" y="71"/>
                        </a:lnTo>
                        <a:lnTo>
                          <a:pt x="152" y="83"/>
                        </a:lnTo>
                        <a:lnTo>
                          <a:pt x="169" y="88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>
                    <a:off x="9075240" y="2436840"/>
                    <a:ext cx="2664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44">
                        <a:moveTo>
                          <a:pt x="47" y="0"/>
                        </a:moveTo>
                        <a:lnTo>
                          <a:pt x="36" y="8"/>
                        </a:lnTo>
                        <a:lnTo>
                          <a:pt x="25" y="22"/>
                        </a:lnTo>
                        <a:lnTo>
                          <a:pt x="14" y="39"/>
                        </a:lnTo>
                        <a:lnTo>
                          <a:pt x="7" y="57"/>
                        </a:lnTo>
                        <a:lnTo>
                          <a:pt x="2" y="75"/>
                        </a:lnTo>
                        <a:lnTo>
                          <a:pt x="0" y="95"/>
                        </a:lnTo>
                        <a:lnTo>
                          <a:pt x="0" y="113"/>
                        </a:lnTo>
                        <a:lnTo>
                          <a:pt x="3" y="134"/>
                        </a:lnTo>
                        <a:lnTo>
                          <a:pt x="7" y="144"/>
                        </a:lnTo>
                        <a:lnTo>
                          <a:pt x="17" y="135"/>
                        </a:lnTo>
                        <a:lnTo>
                          <a:pt x="24" y="125"/>
                        </a:lnTo>
                        <a:lnTo>
                          <a:pt x="32" y="112"/>
                        </a:lnTo>
                        <a:lnTo>
                          <a:pt x="38" y="100"/>
                        </a:lnTo>
                        <a:lnTo>
                          <a:pt x="44" y="84"/>
                        </a:lnTo>
                        <a:lnTo>
                          <a:pt x="48" y="69"/>
                        </a:lnTo>
                        <a:lnTo>
                          <a:pt x="52" y="48"/>
                        </a:lnTo>
                        <a:lnTo>
                          <a:pt x="53" y="32"/>
                        </a:lnTo>
                        <a:lnTo>
                          <a:pt x="51" y="14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dfd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72" name=""/>
          <p:cNvGrpSpPr/>
          <p:nvPr/>
        </p:nvGrpSpPr>
        <p:grpSpPr>
          <a:xfrm>
            <a:off x="2438280" y="4572000"/>
            <a:ext cx="2124360" cy="1943280"/>
            <a:chOff x="2438280" y="4572000"/>
            <a:chExt cx="2124360" cy="1943280"/>
          </a:xfrm>
        </p:grpSpPr>
        <p:sp>
          <p:nvSpPr>
            <p:cNvPr id="107" name=""/>
            <p:cNvSpPr/>
            <p:nvPr/>
          </p:nvSpPr>
          <p:spPr>
            <a:xfrm>
              <a:off x="2438280" y="4572000"/>
              <a:ext cx="1905120" cy="11430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mX 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>
              <a:off x="3581280" y="5410440"/>
              <a:ext cx="98136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5"/>
            <a:stretch/>
          </p:blipFill>
          <p:spPr>
            <a:xfrm>
              <a:off x="3048120" y="5410440"/>
              <a:ext cx="534960" cy="5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6934320" y="5257800"/>
            <a:ext cx="609480" cy="5875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6477120" y="5257800"/>
            <a:ext cx="582480" cy="642960"/>
          </a:xfrm>
          <a:prstGeom prst="rect">
            <a:avLst/>
          </a:prstGeom>
          <a:ln w="0">
            <a:noFill/>
          </a:ln>
        </p:spPr>
      </p:pic>
      <p:cxnSp>
        <p:nvCxnSpPr>
          <p:cNvPr id="177" name=""/>
          <p:cNvCxnSpPr/>
          <p:nvPr/>
        </p:nvCxnSpPr>
        <p:spPr>
          <a:xfrm flipV="1" rot="16200000">
            <a:off x="5390640" y="2456640"/>
            <a:ext cx="1220040" cy="2705760"/>
          </a:xfrm>
          <a:prstGeom prst="curvedConnector2">
            <a:avLst/>
          </a:prstGeom>
          <a:ln w="28440">
            <a:solidFill>
              <a:srgbClr val="618ffd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07" idx="0"/>
            <a:endCxn id="106" idx="2"/>
          </p:cNvCxnSpPr>
          <p:nvPr/>
        </p:nvCxnSpPr>
        <p:spPr>
          <a:xfrm flipH="1" flipV="1" rot="5400000">
            <a:off x="3162240" y="3733200"/>
            <a:ext cx="1067400" cy="610560"/>
          </a:xfrm>
          <a:prstGeom prst="curvedConnector5">
            <a:avLst>
              <a:gd name="adj1" fmla="val 50000"/>
              <a:gd name="adj2" fmla="val 49970"/>
              <a:gd name="adj3" fmla="val 50000"/>
            </a:avLst>
          </a:prstGeom>
          <a:ln w="28440">
            <a:solidFill>
              <a:srgbClr val="618ffd"/>
            </a:solidFill>
            <a:miter/>
            <a:tailEnd len="sm" type="triangle" w="sm"/>
          </a:ln>
        </p:spPr>
      </p:cxnSp>
      <p:grpSp>
        <p:nvGrpSpPr>
          <p:cNvPr id="179" name=""/>
          <p:cNvGrpSpPr/>
          <p:nvPr/>
        </p:nvGrpSpPr>
        <p:grpSpPr>
          <a:xfrm>
            <a:off x="4648320" y="2708280"/>
            <a:ext cx="3244680" cy="1711440"/>
            <a:chOff x="4648320" y="2708280"/>
            <a:chExt cx="3244680" cy="1711440"/>
          </a:xfrm>
        </p:grpSpPr>
        <p:sp>
          <p:nvSpPr>
            <p:cNvPr id="180" name=""/>
            <p:cNvSpPr/>
            <p:nvPr/>
          </p:nvSpPr>
          <p:spPr>
            <a:xfrm>
              <a:off x="5888160" y="2708280"/>
              <a:ext cx="200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Images please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" name=""/>
            <p:cNvCxnSpPr>
              <a:stCxn id="106" idx="3"/>
              <a:endCxn id="115" idx="0"/>
            </p:cNvCxnSpPr>
            <p:nvPr/>
          </p:nvCxnSpPr>
          <p:spPr>
            <a:xfrm>
              <a:off x="4648320" y="3200040"/>
              <a:ext cx="2705760" cy="1220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2" name=""/>
          <p:cNvGrpSpPr/>
          <p:nvPr/>
        </p:nvGrpSpPr>
        <p:grpSpPr>
          <a:xfrm>
            <a:off x="4344480" y="5084640"/>
            <a:ext cx="1977120" cy="825480"/>
            <a:chOff x="4344480" y="5084640"/>
            <a:chExt cx="1977120" cy="825480"/>
          </a:xfrm>
        </p:grpSpPr>
        <p:sp>
          <p:nvSpPr>
            <p:cNvPr id="183" name=""/>
            <p:cNvSpPr/>
            <p:nvPr/>
          </p:nvSpPr>
          <p:spPr>
            <a:xfrm>
              <a:off x="4379760" y="5084640"/>
              <a:ext cx="178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XW source</a:t>
              </a:r>
              <a:br>
                <a:rPr sz="2400"/>
              </a:b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lease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4" name=""/>
            <p:cNvCxnSpPr>
              <a:stCxn id="107" idx="3"/>
            </p:cNvCxnSpPr>
            <p:nvPr/>
          </p:nvCxnSpPr>
          <p:spPr>
            <a:xfrm>
              <a:off x="4344480" y="5143320"/>
              <a:ext cx="197748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Hotlinking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inking a remote file, froma page which resides on a different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Warning: not all providers allow i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IMAGESFOLDER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t is the folder that contains all media files for your g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MAGESFOLDER_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MAGESFOLDER_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Checklist 2 to go live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repar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DXW source, media files in a fo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Get a web spac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static is 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Uploa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DXW + media on web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Verif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URL of the DXW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Get a DimensioneX server s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et up your DXW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URL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into your game slot (ask Admin or use Maintenance pan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ix problems (if any) due to wrong IMAGESFOLDER in DXW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1600" y="602136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dimensionex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nect to </a:t>
            </a:r>
            <a:r>
              <a:rPr b="0" lang="it-IT" sz="32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ftp://www.gamesclan.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ccount username/password as provi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pload as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folder/file.dx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RL will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Times New Roman"/>
              </a:rPr>
              <a:t>http://www.gamesclan.it/images/banners/</a:t>
            </a:r>
            <a:br>
              <a:rPr sz="3200"/>
            </a:br>
            <a:r>
              <a:rPr b="0" lang="it-IT" sz="3200" spc="-1" strike="noStrike">
                <a:solidFill>
                  <a:srgbClr val="0000cc"/>
                </a:solidFill>
                <a:latin typeface="Times New Roman"/>
              </a:rPr>
              <a:t>cris/username/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folder/file.dx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Supported Media Formats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 JPG 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V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P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 SW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Recommended format sizes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88880" y="2492280"/>
            <a:ext cx="907272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Riassunto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cheme: how it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Hotl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How to publ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edia formats and siz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307360" y="2362320"/>
          <a:ext cx="1141560" cy="110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7360" y="2362320"/>
                    <a:ext cx="114156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5T10:10:58Z</dcterms:created>
  <dc:creator>Cristiano Leoni</dc:creator>
  <dc:description/>
  <cp:keywords/>
  <dc:language>en-US</dc:language>
  <cp:lastModifiedBy>Cristiano Leoni</cp:lastModifiedBy>
  <cp:lastPrinted>1998-11-02T16:35:46Z</cp:lastPrinted>
  <dcterms:modified xsi:type="dcterms:W3CDTF">2006-09-05T14:31:21Z</dcterms:modified>
  <cp:revision>83</cp:revision>
  <dc:subject/>
  <dc:title>Presentazione di PowerPoint</dc:title>
</cp:coreProperties>
</file>