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174A-58FE-42A7-B4BF-77F3E810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986B-1D4E-4DD7-89E5-D88A568E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07DD-51F2-4066-9DCD-C2E21FBC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6BD7-4C3A-48D1-83EC-E87D0D96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4495-5D24-4B6F-8AB2-E50F5110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27AE-ECE0-4638-BD4A-BF14B3CD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B7D5-7D17-4D35-B68B-A96EAAED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A835-2EA5-47CF-BDB8-EBB89998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0DF5-B1E5-4574-A04B-6C6C8492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23800" y="259920"/>
            <a:ext cx="813420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C28B-4D55-42D8-BF08-3D75921D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4F48-9AC9-4ED7-B6B9-485204E3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ABDA-0598-4246-88C2-6A652C06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32E6-376B-4E65-BB64-C2AF466B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1357-2439-4419-88F1-B9764450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8D17-AD9D-455E-8C19-C991AB27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52C2-C3BF-484A-BFC8-E4501D6A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3D44-33BD-4E5D-A88A-4B282781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9637-46F2-48DE-9732-83B0D072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A6D3-E061-4EF2-B879-9091D794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AB03-180D-41F4-B859-F608C05E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23800" y="259920"/>
            <a:ext cx="813420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4F9-DA65-48BA-8189-F40379C7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AF32-135A-4A13-BDC8-1E7E8677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0235-865F-4B77-A9AB-41B6673B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755E-CC5F-4C77-ABAD-43A5C155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6120" cy="1484280"/>
            <a:chOff x="0" y="0"/>
            <a:chExt cx="9906120" cy="14842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352520" cy="1484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08160" y="0"/>
              <a:ext cx="8697960" cy="14842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128520" y="189000"/>
              <a:ext cx="1208160" cy="120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dimensionex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D9B50F-BB2E-47CB-8D3A-D457AB0AD86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6219720"/>
            <a:ext cx="9906120" cy="307080"/>
            <a:chOff x="0" y="6219720"/>
            <a:chExt cx="9906120" cy="307080"/>
          </a:xfrm>
        </p:grpSpPr>
        <p:sp>
          <p:nvSpPr>
            <p:cNvPr id="10" name=""/>
            <p:cNvSpPr/>
            <p:nvPr/>
          </p:nvSpPr>
          <p:spPr>
            <a:xfrm>
              <a:off x="0" y="6237360"/>
              <a:ext cx="990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41120" y="6219720"/>
              <a:ext cx="204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www.dimensionex.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1BC06A-9E60-4E1D-B3B9-4FCB021D02F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761760" y="17521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745320" y="2046240"/>
          <a:ext cx="2855880" cy="25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45320" y="2046240"/>
                    <a:ext cx="285588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" name=""/>
          <p:cNvGrpSpPr/>
          <p:nvPr/>
        </p:nvGrpSpPr>
        <p:grpSpPr>
          <a:xfrm>
            <a:off x="0" y="0"/>
            <a:ext cx="9906120" cy="1484280"/>
            <a:chOff x="0" y="0"/>
            <a:chExt cx="9906120" cy="1484280"/>
          </a:xfrm>
        </p:grpSpPr>
        <p:sp>
          <p:nvSpPr>
            <p:cNvPr id="55" name=""/>
            <p:cNvSpPr/>
            <p:nvPr/>
          </p:nvSpPr>
          <p:spPr>
            <a:xfrm>
              <a:off x="0" y="0"/>
              <a:ext cx="1352520" cy="1484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08160" y="0"/>
              <a:ext cx="8697960" cy="14842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128520" y="189000"/>
              <a:ext cx="12081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0" y="6219720"/>
            <a:ext cx="9906120" cy="307080"/>
            <a:chOff x="0" y="6219720"/>
            <a:chExt cx="9906120" cy="307080"/>
          </a:xfrm>
        </p:grpSpPr>
        <p:sp>
          <p:nvSpPr>
            <p:cNvPr id="59" name=""/>
            <p:cNvSpPr/>
            <p:nvPr/>
          </p:nvSpPr>
          <p:spPr>
            <a:xfrm>
              <a:off x="0" y="6237360"/>
              <a:ext cx="990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1120" y="6219720"/>
              <a:ext cx="204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www.dimensionex.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17521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 Black"/>
              </a:rPr>
              <a:t>2 – Scripting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556236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nguag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low control constr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mplicit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ovement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aviga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ray and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5181480"/>
          <a:ext cx="1143000" cy="11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181480"/>
                    <a:ext cx="1143000" cy="11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539720" y="189000"/>
            <a:ext cx="836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SW Development Course</a:t>
            </a:r>
            <a:br>
              <a:rPr sz="3600"/>
            </a:br>
            <a:r>
              <a:rPr b="0" lang="it-IT" sz="2400" spc="-1" strike="noStrike">
                <a:solidFill>
                  <a:srgbClr val="000099"/>
                </a:solidFill>
                <a:latin typeface="Arial Black"/>
              </a:rPr>
              <a:t>Multiplayer Multimedia Apps on th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Speak 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pea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[speaker,][destination,] phrase [, phrase …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peak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efaults to: $OW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estina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efaults to: $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f there are many phrases, they are printed in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Speak from this…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SCRIP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EVENT 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guy.on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Lucida Console"/>
              </a:rPr>
              <a:t>Speak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$OWNER,$AGENT,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“So, what’s up?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END_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…</a:t>
            </a: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to this (compact form)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SCRIP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EVENT 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guy.on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Lucida Console"/>
              </a:rPr>
              <a:t>Speak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“So, what’s up?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END_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Pre-defined values 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Y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(System voice)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se as “speaker” when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$WORL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(All connected play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se as “destina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onLook EVENT Example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SCRIP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EVENT 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guy.on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Lucida Console"/>
              </a:rPr>
              <a:t>Speak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SYS,$WORLD,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“Player “ + $AGENT + “ looks “ + $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END_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Object Model di CHARACTERS 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se the dot . to refer to an object’s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erson.name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Name of the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erson.container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Where person is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(room obj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erson.container.id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(room’s I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erson.container.name (room’s 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Print 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rint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[dest,] What [, what…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int “In this room there’s some ligh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int “OWNER=“ + $OWNER + “ AGENT= “ + $AGENT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 “ TARGET=“ + $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Arial Black"/>
              </a:rPr>
              <a:t>Assignment – remember a value 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Birthday = “July 26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Print Birth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July 26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If .. Else 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(condi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Times New Roman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imes New Roman"/>
              </a:rPr>
              <a:t>I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nd_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No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nd_If and not: “End If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RndInt(N) 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eturns a random nunmber from 1 a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EVENT 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Whatever happens, an EVENTO trig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When an EVENT triggers, the system looks for a specific piece of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t each call,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f that piece of software is found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it is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exec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If .. Else 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Courier New"/>
              </a:rPr>
              <a:t>RndInt(2)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 “ODD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 “EV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End_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EVENT Model: person.onHear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3390840" y="1866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32520" y="4437000"/>
            <a:ext cx="172872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9240" y="2708280"/>
            <a:ext cx="1289160" cy="1809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075040" y="4365720"/>
            <a:ext cx="172692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89240" y="2060640"/>
            <a:ext cx="1944720" cy="720720"/>
          </a:xfrm>
          <a:prstGeom prst="wedgeRoundRectCallout">
            <a:avLst>
              <a:gd name="adj1" fmla="val -72532"/>
              <a:gd name="adj2" fmla="val 83481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89240" y="1628640"/>
            <a:ext cx="17290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321600" y="2708280"/>
            <a:ext cx="1163520" cy="1827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rot="4646400">
            <a:off x="5960160" y="1773720"/>
            <a:ext cx="1152360" cy="719280"/>
          </a:xfrm>
          <a:prstGeom prst="rightArrow">
            <a:avLst>
              <a:gd name="adj1" fmla="val 50000"/>
              <a:gd name="adj2" fmla="val 40053"/>
            </a:avLst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Printing implicit parameters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int “OWNER=“ + $OWNER + “ AGENT= “ + $AGENT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 “ TARGET=“ + $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Inspecting the log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ystem fo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ile name is: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ebug#.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# = number of slot you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f it is missing then edit setting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ebugT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= in the worldnav#.properties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Echoing speech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EVENT person.onH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pea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$OWNER,$AGENT,”You said: “ + $TARGET + “, what do you mean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END_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7113600" y="1915920"/>
            <a:ext cx="4895640" cy="3818160"/>
            <a:chOff x="7113600" y="1915920"/>
            <a:chExt cx="4895640" cy="3818160"/>
          </a:xfrm>
        </p:grpSpPr>
        <p:sp>
          <p:nvSpPr>
            <p:cNvPr id="168" name=""/>
            <p:cNvSpPr/>
            <p:nvPr/>
          </p:nvSpPr>
          <p:spPr>
            <a:xfrm>
              <a:off x="7113600" y="1916280"/>
              <a:ext cx="4895640" cy="381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113600" y="4292640"/>
              <a:ext cx="1800000" cy="14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8913600" y="1915920"/>
              <a:ext cx="0" cy="23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13600" y="4292640"/>
              <a:ext cx="302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EVENT Model: room.onLoose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73" name=""/>
          <p:cNvSpPr/>
          <p:nvPr/>
        </p:nvSpPr>
        <p:spPr>
          <a:xfrm>
            <a:off x="3390840" y="1866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05600" y="2781360"/>
            <a:ext cx="1295280" cy="16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281240" y="1915920"/>
            <a:ext cx="4895640" cy="3818160"/>
            <a:chOff x="1281240" y="1915920"/>
            <a:chExt cx="4895640" cy="3818160"/>
          </a:xfrm>
        </p:grpSpPr>
        <p:sp>
          <p:nvSpPr>
            <p:cNvPr id="176" name=""/>
            <p:cNvSpPr/>
            <p:nvPr/>
          </p:nvSpPr>
          <p:spPr>
            <a:xfrm>
              <a:off x="1281240" y="1916280"/>
              <a:ext cx="4895640" cy="381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281240" y="4292640"/>
              <a:ext cx="1800000" cy="14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081240" y="1915920"/>
              <a:ext cx="0" cy="23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81240" y="4292640"/>
              <a:ext cx="302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641600" y="4869000"/>
            <a:ext cx="172692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21240" y="2637000"/>
            <a:ext cx="1289160" cy="1809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297240" y="3789360"/>
            <a:ext cx="172872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61240" y="3933720"/>
            <a:ext cx="172872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7113600" y="1915920"/>
            <a:ext cx="4895640" cy="3818160"/>
            <a:chOff x="7113600" y="1915920"/>
            <a:chExt cx="4895640" cy="3818160"/>
          </a:xfrm>
        </p:grpSpPr>
        <p:sp>
          <p:nvSpPr>
            <p:cNvPr id="185" name=""/>
            <p:cNvSpPr/>
            <p:nvPr/>
          </p:nvSpPr>
          <p:spPr>
            <a:xfrm>
              <a:off x="7113600" y="1916280"/>
              <a:ext cx="4895640" cy="381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113600" y="4292640"/>
              <a:ext cx="1800000" cy="14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913600" y="1915920"/>
              <a:ext cx="0" cy="23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913600" y="4292640"/>
              <a:ext cx="302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EVENT Model: person.onExit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3390840" y="1866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53240" y="2781360"/>
            <a:ext cx="1295280" cy="16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81240" y="1915920"/>
            <a:ext cx="4895640" cy="3818160"/>
            <a:chOff x="1281240" y="1915920"/>
            <a:chExt cx="4895640" cy="3818160"/>
          </a:xfrm>
        </p:grpSpPr>
        <p:sp>
          <p:nvSpPr>
            <p:cNvPr id="193" name=""/>
            <p:cNvSpPr/>
            <p:nvPr/>
          </p:nvSpPr>
          <p:spPr>
            <a:xfrm>
              <a:off x="1281240" y="1916280"/>
              <a:ext cx="4895640" cy="381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281240" y="4292640"/>
              <a:ext cx="1800000" cy="14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081240" y="1915920"/>
              <a:ext cx="0" cy="23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81240" y="4292640"/>
              <a:ext cx="302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240160" y="2060640"/>
            <a:ext cx="17290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459400" y="2637000"/>
            <a:ext cx="1287360" cy="1809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170320" y="4221000"/>
            <a:ext cx="1727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0520" y="4869000"/>
            <a:ext cx="172872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7113600" y="1915920"/>
            <a:ext cx="4895640" cy="3818160"/>
            <a:chOff x="7113600" y="1915920"/>
            <a:chExt cx="4895640" cy="3818160"/>
          </a:xfrm>
        </p:grpSpPr>
        <p:sp>
          <p:nvSpPr>
            <p:cNvPr id="202" name=""/>
            <p:cNvSpPr/>
            <p:nvPr/>
          </p:nvSpPr>
          <p:spPr>
            <a:xfrm>
              <a:off x="7113600" y="1916280"/>
              <a:ext cx="4895640" cy="381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113600" y="4292640"/>
              <a:ext cx="1800000" cy="14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913600" y="1915920"/>
              <a:ext cx="0" cy="23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913600" y="4292640"/>
              <a:ext cx="302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EVENT Model: person.onEnter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07" name=""/>
          <p:cNvSpPr/>
          <p:nvPr/>
        </p:nvSpPr>
        <p:spPr>
          <a:xfrm>
            <a:off x="3390840" y="1866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53240" y="2781360"/>
            <a:ext cx="1295280" cy="16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281240" y="1915920"/>
            <a:ext cx="4895640" cy="3818160"/>
            <a:chOff x="1281240" y="1915920"/>
            <a:chExt cx="4895640" cy="3818160"/>
          </a:xfrm>
        </p:grpSpPr>
        <p:sp>
          <p:nvSpPr>
            <p:cNvPr id="210" name=""/>
            <p:cNvSpPr/>
            <p:nvPr/>
          </p:nvSpPr>
          <p:spPr>
            <a:xfrm>
              <a:off x="1281240" y="1916280"/>
              <a:ext cx="4895640" cy="381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1281240" y="4292640"/>
              <a:ext cx="1800000" cy="14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081240" y="1915920"/>
              <a:ext cx="0" cy="23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1240" y="4292640"/>
              <a:ext cx="302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240160" y="2060640"/>
            <a:ext cx="17290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459400" y="2637000"/>
            <a:ext cx="1287360" cy="1809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170320" y="4221000"/>
            <a:ext cx="1727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61240" y="4724280"/>
            <a:ext cx="172872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7113600" y="1915920"/>
            <a:ext cx="4895640" cy="3818160"/>
            <a:chOff x="7113600" y="1915920"/>
            <a:chExt cx="4895640" cy="3818160"/>
          </a:xfrm>
        </p:grpSpPr>
        <p:sp>
          <p:nvSpPr>
            <p:cNvPr id="219" name=""/>
            <p:cNvSpPr/>
            <p:nvPr/>
          </p:nvSpPr>
          <p:spPr>
            <a:xfrm>
              <a:off x="7113600" y="1916280"/>
              <a:ext cx="4895640" cy="381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7113600" y="4292640"/>
              <a:ext cx="1800000" cy="14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8913600" y="1915920"/>
              <a:ext cx="0" cy="23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913600" y="4292640"/>
              <a:ext cx="302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EVENT Model: room.onReceive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3390840" y="1866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53240" y="2781360"/>
            <a:ext cx="1295280" cy="16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281240" y="1915920"/>
            <a:ext cx="4895640" cy="3818160"/>
            <a:chOff x="1281240" y="1915920"/>
            <a:chExt cx="4895640" cy="3818160"/>
          </a:xfrm>
        </p:grpSpPr>
        <p:sp>
          <p:nvSpPr>
            <p:cNvPr id="227" name=""/>
            <p:cNvSpPr/>
            <p:nvPr/>
          </p:nvSpPr>
          <p:spPr>
            <a:xfrm>
              <a:off x="1281240" y="1916280"/>
              <a:ext cx="4895640" cy="381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281240" y="4292640"/>
              <a:ext cx="1800000" cy="14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081240" y="1915920"/>
              <a:ext cx="0" cy="23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81240" y="4292640"/>
              <a:ext cx="302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7616880" y="4869000"/>
            <a:ext cx="172872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459400" y="2637000"/>
            <a:ext cx="1287360" cy="1809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097600" y="1989000"/>
            <a:ext cx="172872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AGENT 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70320" y="4292640"/>
            <a:ext cx="1727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Arial Black"/>
              </a:rPr>
              <a:t>Navigating Developers Reference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How DimensioneX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esign-time part (DX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un-Time part (SmallBas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bjects’ Object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ystem (built-in)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vailabl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vailable I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EVENT example 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t the game’s star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onStart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f code for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onStart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found, it is exec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25480" y="2286000"/>
            <a:ext cx="7429680" cy="2362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20840" y="2971800"/>
            <a:ext cx="1650960" cy="3049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20840" y="3581280"/>
            <a:ext cx="165096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ia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8" idx="2"/>
            <a:endCxn id="239" idx="0"/>
          </p:cNvCxnSpPr>
          <p:nvPr/>
        </p:nvCxnSpPr>
        <p:spPr>
          <a:xfrm>
            <a:off x="2145960" y="32767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2971800" y="2971800"/>
            <a:ext cx="1650960" cy="3049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3581280"/>
            <a:ext cx="165096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hol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1" idx="2"/>
            <a:endCxn id="242" idx="0"/>
          </p:cNvCxnSpPr>
          <p:nvPr/>
        </p:nvCxnSpPr>
        <p:spPr>
          <a:xfrm>
            <a:off x="3796920" y="32767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4622760" y="2971800"/>
            <a:ext cx="1650960" cy="3049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22760" y="3581280"/>
            <a:ext cx="165096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4" idx="2"/>
            <a:endCxn id="245" idx="0"/>
          </p:cNvCxnSpPr>
          <p:nvPr/>
        </p:nvCxnSpPr>
        <p:spPr>
          <a:xfrm>
            <a:off x="5447880" y="32767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6273720" y="2971800"/>
            <a:ext cx="1650960" cy="3049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73720" y="3581280"/>
            <a:ext cx="165096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hell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7" idx="2"/>
            <a:endCxn id="248" idx="0"/>
          </p:cNvCxnSpPr>
          <p:nvPr/>
        </p:nvCxnSpPr>
        <p:spPr>
          <a:xfrm>
            <a:off x="7098840" y="32767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990720" y="2438280"/>
            <a:ext cx="140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rrGre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Array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Array + RndInt(N) 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rrGreets = NewSet(“ciao,hola,hello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peak arrGreets(RndInt(3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i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i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H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825480" y="2286000"/>
            <a:ext cx="7429320" cy="2362320"/>
            <a:chOff x="825480" y="2286000"/>
            <a:chExt cx="7429320" cy="2362320"/>
          </a:xfrm>
        </p:grpSpPr>
        <p:sp>
          <p:nvSpPr>
            <p:cNvPr id="255" name=""/>
            <p:cNvSpPr/>
            <p:nvPr/>
          </p:nvSpPr>
          <p:spPr>
            <a:xfrm>
              <a:off x="825480" y="2286000"/>
              <a:ext cx="7429320" cy="2362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20480" y="2971800"/>
              <a:ext cx="1650600" cy="304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o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20480" y="3581280"/>
              <a:ext cx="165060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8" name=""/>
            <p:cNvCxnSpPr>
              <a:stCxn id="256" idx="2"/>
              <a:endCxn id="257" idx="0"/>
            </p:cNvCxnSpPr>
            <p:nvPr/>
          </p:nvCxnSpPr>
          <p:spPr>
            <a:xfrm>
              <a:off x="2145600" y="3276720"/>
              <a:ext cx="10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9" name=""/>
            <p:cNvSpPr/>
            <p:nvPr/>
          </p:nvSpPr>
          <p:spPr>
            <a:xfrm>
              <a:off x="2971440" y="2971800"/>
              <a:ext cx="1650600" cy="304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row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71440" y="3581280"/>
              <a:ext cx="165060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1" name=""/>
            <p:cNvCxnSpPr>
              <a:stCxn id="259" idx="2"/>
              <a:endCxn id="260" idx="0"/>
            </p:cNvCxnSpPr>
            <p:nvPr/>
          </p:nvCxnSpPr>
          <p:spPr>
            <a:xfrm>
              <a:off x="3796920" y="3276720"/>
              <a:ext cx="10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622400" y="2971800"/>
              <a:ext cx="1650960" cy="304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scro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22400" y="3581280"/>
              <a:ext cx="16509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4" name=""/>
            <p:cNvCxnSpPr>
              <a:stCxn id="262" idx="2"/>
              <a:endCxn id="263" idx="0"/>
            </p:cNvCxnSpPr>
            <p:nvPr/>
          </p:nvCxnSpPr>
          <p:spPr>
            <a:xfrm>
              <a:off x="5447880" y="3276720"/>
              <a:ext cx="10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5" name=""/>
            <p:cNvSpPr/>
            <p:nvPr/>
          </p:nvSpPr>
          <p:spPr>
            <a:xfrm>
              <a:off x="6273720" y="2971800"/>
              <a:ext cx="1650600" cy="304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swo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73720" y="3581280"/>
              <a:ext cx="165060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5" idx="2"/>
              <a:endCxn id="266" idx="0"/>
            </p:cNvCxnSpPr>
            <p:nvPr/>
          </p:nvCxnSpPr>
          <p:spPr>
            <a:xfrm>
              <a:off x="7098480" y="3276720"/>
              <a:ext cx="10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"/>
            <p:cNvSpPr/>
            <p:nvPr/>
          </p:nvSpPr>
          <p:spPr>
            <a:xfrm>
              <a:off x="990360" y="2438280"/>
              <a:ext cx="2641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setObjec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5117760" y="3657600"/>
              <a:ext cx="5778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466800" y="3657600"/>
              <a:ext cx="5778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6851160" y="3657600"/>
              <a:ext cx="5778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4"/>
            <a:stretch/>
          </p:blipFill>
          <p:spPr>
            <a:xfrm>
              <a:off x="1980720" y="3657600"/>
              <a:ext cx="414360" cy="55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SET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For Each Next 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areful! To set and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For Each Next + SET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“present characters: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or Each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In </a:t>
            </a:r>
            <a:r>
              <a:rPr b="1" i="1" lang="it-IT" sz="2400" spc="-1" strike="noStrike">
                <a:solidFill>
                  <a:srgbClr val="000000"/>
                </a:solidFill>
                <a:latin typeface="Courier New"/>
              </a:rPr>
              <a:t>getCharactersIn</a:t>
            </a:r>
            <a:r>
              <a:rPr b="0" i="1" lang="it-IT" sz="2400" spc="-1" strike="noStrike">
                <a:solidFill>
                  <a:srgbClr val="000000"/>
                </a:solidFill>
                <a:latin typeface="Courier New"/>
              </a:rPr>
              <a:t>($WOR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nguage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low control constr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mplicit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ovement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avigating 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rray and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8307360" y="2362320"/>
          <a:ext cx="1141560" cy="110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7360" y="2362320"/>
                    <a:ext cx="11415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EVENT 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EVEN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id_evento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struction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End_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81600" y="2205000"/>
            <a:ext cx="3962520" cy="647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erify Developers Re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EVENT Example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EVEN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onStart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all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PopMonster() ‘My function – make a monster</a:t>
            </a:r>
            <a:br>
              <a:rPr sz="2400"/>
            </a:b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‘to pop up in a random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End_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EVENT example 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 character gets looked at (clicked 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he event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.onLoo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trig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f existing, the event gets executed and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therwise the generic event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onLoo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trig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f existing, the event gets execu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Implicit parameters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$OWNE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– who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own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the event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quals to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n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$AGENT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– who started the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$TARGET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– third actor (sometimes used, mostly n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EVENT Model: person.onLook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3390840" y="1866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32520" y="4437000"/>
            <a:ext cx="172872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9240" y="2708280"/>
            <a:ext cx="1289160" cy="1809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075040" y="4365720"/>
            <a:ext cx="172692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321600" y="2708280"/>
            <a:ext cx="1163520" cy="1827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rot="4646400">
            <a:off x="5960160" y="1773720"/>
            <a:ext cx="1152360" cy="719280"/>
          </a:xfrm>
          <a:prstGeom prst="rightArrow">
            <a:avLst>
              <a:gd name="adj1" fmla="val 50000"/>
              <a:gd name="adj2" fmla="val 40053"/>
            </a:avLst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440160" y="2923920"/>
            <a:ext cx="3025800" cy="7308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onLook EVENT Example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SCRIP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EVENT 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guy.on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Lucida Console"/>
              </a:rPr>
              <a:t>Speak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$OWNER,$AGENT,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“So, what’s up?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END_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5T10:10:58Z</dcterms:created>
  <dc:creator>Cristiano Leoni</dc:creator>
  <dc:description/>
  <cp:keywords/>
  <dc:language>en-US</dc:language>
  <cp:lastModifiedBy>Cristiano Leoni</cp:lastModifiedBy>
  <cp:lastPrinted>1998-11-02T16:35:46Z</cp:lastPrinted>
  <dcterms:modified xsi:type="dcterms:W3CDTF">2006-09-05T14:19:15Z</dcterms:modified>
  <cp:revision>89</cp:revision>
  <dc:subject/>
  <dc:title>Presentazione di PowerPoint</dc:title>
</cp:coreProperties>
</file>