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DD6-A826-42AB-B159-AA059CFB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D5D-30CD-49B6-A045-D32BDB2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E29-0374-4956-BF1A-D97E90BD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0A9-C8A2-4A1F-96F3-D0BAB93C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7AF6-4B24-4EAF-933D-56DAD03B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9A7A-5559-464D-94B4-0AD007B8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F73C-2649-4D12-812E-4560513B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A7CC-0851-40AD-AD63-A85A665E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EA25-9280-44CD-A08A-29EB82B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F6A-6AE2-44E1-8859-1D60180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C68B-A0FF-4D5E-B775-7C3CA3B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62A-6491-4B26-8EDD-A214BED5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A2E4-9ED7-4D59-B91C-131C6C5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8C4A-310A-467C-8FDF-2FEFF937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540F-BA9E-4FC3-A1A2-24F3271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E434-960D-475A-8C58-38561DF5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2CDC-4D7E-4C92-806E-872BB76B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E12-2435-4883-ADEB-B71695F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74F-B733-4401-96BC-0A8C037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2D3-43A5-4E2E-82B5-C020B9BE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649-C672-4646-96AA-7E908FF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4D0-7D3C-4C59-B097-BB1E1F7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E92-9041-4E4B-B0CD-FCBFC52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684-7971-4E17-9470-9DE710F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dimensionex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DFAE4E-80F3-4DC1-BC81-ADDA62CB3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10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D978B0-72B4-45A8-994D-DFF43370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45320" y="2046240"/>
          <a:ext cx="28558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2046240"/>
                    <a:ext cx="2855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59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ocalhost:8080/dimx/" TargetMode="External"/><Relationship Id="rId2" Type="http://schemas.openxmlformats.org/officeDocument/2006/relationships/hyperlink" Target="http://localhost:8080/dimx/servlet/multiplayer?game=slot" TargetMode="External"/><Relationship Id="rId3" Type="http://schemas.openxmlformats.org/officeDocument/2006/relationships/hyperlink" Target="http://localhost:8080/dimx/servlet/multiplayer?game=slo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imensionex.net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clan.i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mensionex.net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mensionex.net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Black"/>
              </a:rPr>
              <a:t>1 – Getting Started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55623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What is Dimension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derstand dev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ow to ins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reating a basic multi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5181480"/>
          <a:ext cx="1143000" cy="11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81480"/>
                    <a:ext cx="11430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39720" y="189000"/>
            <a:ext cx="836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W Development Course</a:t>
            </a:r>
            <a:br>
              <a:rPr sz="3600"/>
            </a:br>
            <a:r>
              <a:rPr b="0" lang="it-IT" sz="2400" spc="-1" strike="noStrike">
                <a:solidFill>
                  <a:srgbClr val="000099"/>
                </a:solidFill>
                <a:latin typeface="Arial Black"/>
              </a:rPr>
              <a:t>Multiplayer Multimedia Apps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Start the server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k Programs/Apache Tomcat/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onitor Tom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un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avigat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localhost:8080/dimx/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(men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RL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http://localhost:8080/dimx/servlet/multiplayer?game=</a:t>
            </a:r>
            <a:r>
              <a:rPr b="0" lang="it-IT" sz="2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slot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rcRect l="21989" t="27608" r="15428" b="0"/>
          <a:stretch/>
        </p:blipFill>
        <p:spPr>
          <a:xfrm>
            <a:off x="6105600" y="2852640"/>
            <a:ext cx="1439640" cy="9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rcRect l="0" t="18862" r="0" b="0"/>
          <a:stretch/>
        </p:blipFill>
        <p:spPr>
          <a:xfrm>
            <a:off x="7689960" y="2852640"/>
            <a:ext cx="1368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Creating a basic Multiplayer</a:t>
            </a:r>
            <a:br>
              <a:rPr sz="3200"/>
            </a:b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Let’s Rol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world1.dx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0880" y="1916280"/>
            <a:ext cx="3311280" cy="4176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52520" y="2324160"/>
            <a:ext cx="2376360" cy="24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2520" y="4941720"/>
            <a:ext cx="1655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XW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def.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GUI</a:t>
            </a:r>
            <a:br>
              <a:rPr sz="2400"/>
            </a:b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LIN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ITEMS</a:t>
            </a:r>
            <a:br>
              <a:rPr sz="2400"/>
            </a:b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ae00"/>
                </a:solidFill>
                <a:latin typeface="Lucida Console"/>
              </a:rPr>
              <a:t>SCRIP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Console"/>
              </a:rPr>
              <a:t>END_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1240" y="350028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08160" y="508464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96520" y="1916280"/>
            <a:ext cx="5688720" cy="2665080"/>
            <a:chOff x="3296520" y="1916280"/>
            <a:chExt cx="5688720" cy="2665080"/>
          </a:xfrm>
        </p:grpSpPr>
        <p:sp>
          <p:nvSpPr>
            <p:cNvPr id="150" name=""/>
            <p:cNvSpPr/>
            <p:nvPr/>
          </p:nvSpPr>
          <p:spPr>
            <a:xfrm>
              <a:off x="5168880" y="1916280"/>
              <a:ext cx="3816360" cy="2665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SIGN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1"/>
              <a:endCxn id="147" idx="3"/>
            </p:cNvCxnSpPr>
            <p:nvPr/>
          </p:nvCxnSpPr>
          <p:spPr>
            <a:xfrm flipH="1">
              <a:off x="3296520" y="3249720"/>
              <a:ext cx="1872360" cy="358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3008160" y="4869000"/>
            <a:ext cx="5977080" cy="936360"/>
            <a:chOff x="3008160" y="4869000"/>
            <a:chExt cx="5977080" cy="936360"/>
          </a:xfrm>
        </p:grpSpPr>
        <p:sp>
          <p:nvSpPr>
            <p:cNvPr id="153" name=""/>
            <p:cNvSpPr/>
            <p:nvPr/>
          </p:nvSpPr>
          <p:spPr>
            <a:xfrm>
              <a:off x="5168880" y="4869000"/>
              <a:ext cx="3816360" cy="936360"/>
            </a:xfrm>
            <a:prstGeom prst="rect">
              <a:avLst/>
            </a:prstGeom>
            <a:solidFill>
              <a:srgbClr val="d2fed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1"/>
              <a:endCxn id="148" idx="1"/>
            </p:cNvCxnSpPr>
            <p:nvPr/>
          </p:nvCxnSpPr>
          <p:spPr>
            <a:xfrm flipH="1" flipV="1">
              <a:off x="3008160" y="5192280"/>
              <a:ext cx="2161080" cy="14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ORLD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Worl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MAGESFOLDER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/dimx/pic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ERSIO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UTHOR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Cristiano Leoni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HELP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Lucida Console"/>
                <a:hlinkClick r:id="rId1"/>
              </a:rPr>
              <a:t>http://www.dimensionex.net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(body of the game/wor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Console"/>
              </a:rPr>
              <a:t>END_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actice 1.2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dit world1.dxw, restart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&amp;view=admi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to the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e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ROOM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ROOM </a:t>
            </a:r>
            <a:r>
              <a:rPr b="1" lang="en-US" sz="2400" spc="-1" strike="noStrike">
                <a:solidFill>
                  <a:srgbClr val="fc0128"/>
                </a:solidFill>
                <a:latin typeface="Lucida Console"/>
              </a:rPr>
              <a:t>beach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The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ESCRIPTIO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It is a sunny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spiaggia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Lucida Console"/>
              </a:rPr>
              <a:t>face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image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5600" y="5157720"/>
            <a:ext cx="2738520" cy="1008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Lucida Console"/>
              </a:rPr>
              <a:t>face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=NS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actice 1.3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n Google/Images look for 3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itabl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lan how to link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ave in “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ic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ght-click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ave image a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dit game and re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00880" y="1628640"/>
            <a:ext cx="16527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LINK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INK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Lucida Console"/>
              </a:rPr>
              <a:t>c1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beach-room2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LIN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Lucida Console"/>
              </a:rPr>
              <a:t>c2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beach-underground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NAME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(more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actice 1.4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lace LIN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dit game and restart,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57960" y="1052640"/>
            <a:ext cx="16527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ITEM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TEM </a:t>
            </a:r>
            <a:r>
              <a:rPr b="1" lang="en-US" sz="2000" spc="-1" strike="noStrike">
                <a:solidFill>
                  <a:srgbClr val="fc0128"/>
                </a:solidFill>
                <a:latin typeface="Lucida Console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a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SCRIPTI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Just an ordinary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OSITI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b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C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icoBox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TTRLIS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open=0,hideable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80x64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box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OW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ND_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What do we want to make?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ossible 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DR Multiplayer, Adventure Multiplayer, MMOR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Turn-base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novative multimedia ap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u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actice 1.5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ke a box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dit game, restart and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HARACTER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ARAC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TTRLIST 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type=0,Health=10,Strength=1,Experienc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' Type da 10 onwards=mon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' from 1 to 9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' 0 means non-combating ro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ARACTER </a:t>
            </a:r>
            <a:r>
              <a:rPr b="1" lang="en-US" sz="1800" spc="-1" strike="noStrike">
                <a:solidFill>
                  <a:srgbClr val="fc0128"/>
                </a:solidFill>
                <a:latin typeface="Lucida Console"/>
              </a:rPr>
              <a:t>g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A G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A walking gu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OSITION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TTRLIS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type=1,Strength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AG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120x120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chrSurfer.g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D_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actice 1.6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d a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dit game and restart,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SCRIPT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guy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Hey, what’s up?", “Leave me alone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7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d inter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dit game, restart,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hat is Dimensio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derstand dev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w to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ating a basic multip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307360" y="2362320"/>
          <a:ext cx="114156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7360" y="2362320"/>
                    <a:ext cx="1141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What is DimensioneX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ame engi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it makes your software run by doing the basic thing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arts” are missin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graphics, messages and multimedia elements), also your desired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2160" y="5300640"/>
            <a:ext cx="7924680" cy="936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indows /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DimX Server Architectur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73240" y="4869000"/>
            <a:ext cx="502920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3760" y="4038480"/>
            <a:ext cx="44942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eb server (Tomc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3352680"/>
            <a:ext cx="3200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mensioneX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ervlet “multiplay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4480" y="2057400"/>
            <a:ext cx="912600" cy="1371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057400"/>
            <a:ext cx="914400" cy="1371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 few Feature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mple to use (no downloads nor insta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eb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unds/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ripting VisualBasic-lik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ree hosting 24/7 (</a:t>
            </a: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ww.gamesclan.i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stant visibility (+13,000 visits/week) for your own littl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actice 1.1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test 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nect 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ww.dimensionex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nlin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der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Working Tool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mensioneX Server (Java+Tomcat+Dim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xt editor (Text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veloper’s Reference (PD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age management (ACDS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age editor (Paint Shop Pro+Anim P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How to install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wnload from: </a:t>
            </a: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ww.dimensionex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llow instru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adme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stallation Manual (online, WI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Development environmen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8115480" cy="392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24160" y="263700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3860640"/>
            <a:ext cx="1081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0520" y="465300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13240" y="278136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0520" y="400536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0:58Z</dcterms:created>
  <dc:creator>Cristiano Leoni</dc:creator>
  <dc:description/>
  <cp:keywords/>
  <dc:language>en-US</dc:language>
  <cp:lastModifiedBy>Cris &amp; Tata</cp:lastModifiedBy>
  <cp:lastPrinted>1998-11-02T16:35:46Z</cp:lastPrinted>
  <dcterms:modified xsi:type="dcterms:W3CDTF">2006-09-02T15:44:41Z</dcterms:modified>
  <cp:revision>73</cp:revision>
  <dc:subject/>
  <dc:title>Presentazione di PowerPoint</dc:title>
</cp:coreProperties>
</file>