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B1D-AB61-42F7-81DC-6584ABA8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96F-CBDA-4B15-876E-58A78938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7F2-D172-4EE3-AD76-86B008BD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603-7D41-4027-B5AE-B8E141D8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519C-C180-47A0-AB26-DF2954B1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3917-5A0A-449C-B6A6-F9C23CA2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6F4F-7A37-49FA-8FDD-61A6BB0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5C7B-DBC4-4F0C-A7C5-B17DF1C4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3A66-5142-44C4-90EF-E3F3A168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B89F-4131-436C-AB2E-D786128E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8F6-276F-4849-A282-EF648904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19F-6C7F-48C9-AA36-D02E929E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FFB6-C904-44CF-90CC-16B0979E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EDE4-D2F6-46EE-91E5-41C2553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AFF6-641D-417A-8440-2C619B72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2CA2-C214-4218-AA0C-73693624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0F10-96F0-4420-8E3B-93E31D11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AAF-36F8-46AC-8EDD-A0E6BEBF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A8A3-70F4-4818-A81F-F229CD77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90D-08F5-4449-9958-BE979A0D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176-B47A-4C76-AC8C-290C7030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47C-7732-4F0C-89EC-B8419E1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C9B-5356-4FDD-B47F-F4A8E7F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CBF4-BC5C-4CFB-831E-656C334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dimensionex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81D6EF-BD96-4BA6-855E-D6CB6BDE4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10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A2D005-3A08-4005-B15D-CAA64BDD5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745320" y="2046240"/>
          <a:ext cx="285588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5320" y="2046240"/>
                    <a:ext cx="28558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59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ocalhost:8080/dimx/" TargetMode="External"/><Relationship Id="rId2" Type="http://schemas.openxmlformats.org/officeDocument/2006/relationships/hyperlink" Target="http://localhost:8080/dimx/servlet/multiplayer?game=slot" TargetMode="External"/><Relationship Id="rId3" Type="http://schemas.openxmlformats.org/officeDocument/2006/relationships/hyperlink" Target="http://localhost:8080/dimx/servlet/multiplayer?game=slot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imensionex.net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mesclan.i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imensionex.net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imensionex.net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1 – Per Iniziare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556236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pplicazioni possi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he cos’è Dimension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apire l’ambiente di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e si insta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reare un mini multipla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5181480"/>
          <a:ext cx="1143000" cy="11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81480"/>
                    <a:ext cx="114300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39720" y="189000"/>
            <a:ext cx="836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Corso Multiplayer</a:t>
            </a:r>
            <a:br>
              <a:rPr sz="3600"/>
            </a:br>
            <a:r>
              <a:rPr b="0" lang="it-IT" sz="2400" spc="-1" strike="noStrike">
                <a:solidFill>
                  <a:srgbClr val="000099"/>
                </a:solidFill>
                <a:latin typeface="Arial Black"/>
              </a:rPr>
              <a:t>Applicazioni Multimediali Multiplayer su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Avviare il server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ivare Programmi/Apache Tomcat/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onitor Tomc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vviare il serviz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git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http://localhost:8080/dimx/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(men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RL tip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c0128"/>
                </a:solidFill>
                <a:uFillTx/>
                <a:latin typeface="Times New Roman"/>
                <a:hlinkClick r:id="rId2"/>
              </a:rPr>
              <a:t>http://localhost:8080/dimx/servlet/multiplayer?game=</a:t>
            </a:r>
            <a:r>
              <a:rPr b="0" lang="it-IT" sz="2400" spc="-1" strike="noStrike" u="sng">
                <a:solidFill>
                  <a:srgbClr val="fc0128"/>
                </a:solidFill>
                <a:uFillTx/>
                <a:latin typeface="Times New Roman"/>
                <a:hlinkClick r:id="rId3"/>
              </a:rPr>
              <a:t>slot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rcRect l="21989" t="27608" r="15428" b="0"/>
          <a:stretch/>
        </p:blipFill>
        <p:spPr>
          <a:xfrm>
            <a:off x="6105600" y="2852640"/>
            <a:ext cx="1439640" cy="947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rcRect l="0" t="18862" r="0" b="0"/>
          <a:stretch/>
        </p:blipFill>
        <p:spPr>
          <a:xfrm>
            <a:off x="7689960" y="2852640"/>
            <a:ext cx="136836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Arial Black"/>
              </a:rPr>
              <a:t>Creare un mini Multiplayer</a:t>
            </a:r>
            <a:br>
              <a:rPr sz="3200"/>
            </a:br>
            <a:r>
              <a:rPr b="0" lang="it-IT" sz="3200" spc="-1" strike="noStrike">
                <a:solidFill>
                  <a:srgbClr val="000099"/>
                </a:solidFill>
                <a:latin typeface="Arial Black"/>
              </a:rPr>
              <a:t>Iniziamo</a:t>
            </a:r>
            <a:endParaRPr b="0" lang="en-US" sz="32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ld1.dx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ella cartell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20880" y="1916280"/>
            <a:ext cx="3311280" cy="41767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2520" y="2324160"/>
            <a:ext cx="2376360" cy="24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52520" y="4941720"/>
            <a:ext cx="16556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Formato DXW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def.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GUI</a:t>
            </a:r>
            <a:br>
              <a:rPr sz="2400"/>
            </a:b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LIN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ITEMS</a:t>
            </a:r>
            <a:br>
              <a:rPr sz="2400"/>
            </a:br>
            <a:r>
              <a:rPr b="1" i="1" lang="en-US" sz="2400" spc="-1" strike="noStrike">
                <a:solidFill>
                  <a:srgbClr val="618ffd"/>
                </a:solidFill>
                <a:latin typeface="Lucida Console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ae00"/>
                </a:solidFill>
                <a:latin typeface="Lucida Console"/>
              </a:rPr>
              <a:t>SCRIP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Console"/>
              </a:rPr>
              <a:t>END_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81240" y="350028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08160" y="508464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96520" y="1916280"/>
            <a:ext cx="5688720" cy="2665080"/>
            <a:chOff x="3296520" y="1916280"/>
            <a:chExt cx="5688720" cy="2665080"/>
          </a:xfrm>
        </p:grpSpPr>
        <p:sp>
          <p:nvSpPr>
            <p:cNvPr id="151" name=""/>
            <p:cNvSpPr/>
            <p:nvPr/>
          </p:nvSpPr>
          <p:spPr>
            <a:xfrm>
              <a:off x="5168880" y="1916280"/>
              <a:ext cx="3816360" cy="26650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gic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-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51" idx="1"/>
              <a:endCxn id="148" idx="3"/>
            </p:cNvCxnSpPr>
            <p:nvPr/>
          </p:nvCxnSpPr>
          <p:spPr>
            <a:xfrm flipH="1">
              <a:off x="3296520" y="3249720"/>
              <a:ext cx="1872360" cy="358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" name=""/>
          <p:cNvGrpSpPr/>
          <p:nvPr/>
        </p:nvGrpSpPr>
        <p:grpSpPr>
          <a:xfrm>
            <a:off x="3008160" y="4869000"/>
            <a:ext cx="5977080" cy="936360"/>
            <a:chOff x="3008160" y="4869000"/>
            <a:chExt cx="5977080" cy="936360"/>
          </a:xfrm>
        </p:grpSpPr>
        <p:sp>
          <p:nvSpPr>
            <p:cNvPr id="154" name=""/>
            <p:cNvSpPr/>
            <p:nvPr/>
          </p:nvSpPr>
          <p:spPr>
            <a:xfrm>
              <a:off x="5168880" y="4869000"/>
              <a:ext cx="3816360" cy="936360"/>
            </a:xfrm>
            <a:prstGeom prst="rect">
              <a:avLst/>
            </a:prstGeom>
            <a:solidFill>
              <a:srgbClr val="d2fed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UN-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1"/>
              <a:endCxn id="149" idx="1"/>
            </p:cNvCxnSpPr>
            <p:nvPr/>
          </p:nvCxnSpPr>
          <p:spPr>
            <a:xfrm flipH="1" flipV="1">
              <a:off x="3008160" y="5192280"/>
              <a:ext cx="2161080" cy="144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WORLD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Worl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MAGESFOLDER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/dimx/pic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VERSION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UTHOR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Cristiano Leoni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HELP  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000" spc="-1" strike="noStrike" u="sng">
                <a:solidFill>
                  <a:srgbClr val="fc0128"/>
                </a:solidFill>
                <a:uFillTx/>
                <a:latin typeface="Lucida Console"/>
                <a:hlinkClick r:id="rId1"/>
              </a:rPr>
              <a:t>http://www.dimensionex.net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(corpo del gioco/ambi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Console"/>
              </a:rPr>
              <a:t>END_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sercitazione 0.2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odificare world1.dxw, riavviare i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giungere &amp;view=admin all’U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iccar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e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ROOM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ROOM </a:t>
            </a:r>
            <a:r>
              <a:rPr b="1" lang="en-US" sz="2400" spc="-1" strike="noStrike">
                <a:solidFill>
                  <a:srgbClr val="fc0128"/>
                </a:solidFill>
                <a:latin typeface="Lucida Console"/>
              </a:rPr>
              <a:t>spiaggia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La spiag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DESCRIPTION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E’ una spiaggia asso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spiaggia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Lucida Console"/>
              </a:rPr>
              <a:t>faccia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 immagine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5600" y="5157720"/>
            <a:ext cx="2738520" cy="1008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Lucida Console"/>
              </a:rPr>
              <a:t>Faccia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=NSEW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sercitazione 0.3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 Google/Images cercare 3 scene utilizzab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nsare già a come collegar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alvarle in “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ic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lic destro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alva immagin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odificare il gioco e riavvi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400880" y="1628640"/>
            <a:ext cx="16527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LINK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INK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Lucida Console"/>
              </a:rPr>
              <a:t>c1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 spiaggia-stanza2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MLIN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Lucida Console"/>
              </a:rPr>
              <a:t>c2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 spiaggia-caverna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NAME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disc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(altri LIN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sercitazione 0.4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tere i collegament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ificare il gioco e riavvi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57960" y="1052640"/>
            <a:ext cx="16527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ITEM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TEM </a:t>
            </a:r>
            <a:r>
              <a:rPr b="1" lang="en-US" sz="2000" spc="-1" strike="noStrike">
                <a:solidFill>
                  <a:srgbClr val="fc0128"/>
                </a:solidFill>
                <a:latin typeface="Lucida Console"/>
              </a:rPr>
              <a:t>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una scat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DESCRIPTION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E’ solo una scat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POSITION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spiag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CON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icoScatola.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ATTRLIST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open=0,hideable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IMAGE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80x64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box.g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HOW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Lucida Console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END_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osa vogliamo ottenere?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Applicazioni possibi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DR Multiplayer, Adventure Multiplayer, MMOR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iochi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turn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licazioni multimediali innov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uris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-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90840" y="1866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sercitazione 0.5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re una scatol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ificare il gioco e riavvi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HARACTER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HARAC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TTRLIST 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type=0,Salute=10,Forza=1,Esperienz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' Type da 10 in avanti=mos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' da 1 a 9 um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' 0 significa robot non combat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HARACTER </a:t>
            </a:r>
            <a:r>
              <a:rPr b="1" lang="en-US" sz="1800" spc="-1" strike="noStrike">
                <a:solidFill>
                  <a:srgbClr val="fc0128"/>
                </a:solidFill>
                <a:latin typeface="Lucida Console"/>
              </a:rPr>
              <a:t>t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T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Un tizio che camm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OSITION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spiag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TTRLIST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type=1,Forza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MAGE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120x120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Lucida Console"/>
              </a:rPr>
              <a:t>chrSurfista.g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ND_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sercitazione 0.6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iungere un personagg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ificare il gioco e riavvi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SCRIPTS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SCRI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VENT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tizio.on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Lucida Console"/>
              </a:rPr>
              <a:t>Speak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Lucida Console"/>
              </a:rPr>
              <a:t>“Ehi cos’hai da guardare?", “Lasciami in pace!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END_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sercitazione 0.7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iungere interattiv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ificare il gioco e riavvi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Riassunt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pplicazioni possib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e cos’è Dimension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pire l’ambiente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e si insta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eare un mini multiplay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07360" y="2362320"/>
          <a:ext cx="1141560" cy="11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7360" y="2362320"/>
                    <a:ext cx="1141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Che cos’è DimensioneX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’ un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game engi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vvero u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otor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he fa funzionare il tuo progetto nelle funzionalità più comuni, per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anc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“carrozzeria”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grafica, messaggi e elementi multimediali) e l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terazioni specifich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el c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2160" y="5300640"/>
            <a:ext cx="7924680" cy="936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indows / 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Architettura di un Server DimX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1790640" y="1900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73240" y="4869000"/>
            <a:ext cx="5029200" cy="647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3760" y="4038480"/>
            <a:ext cx="449424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Web server (Tomc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3352680"/>
            <a:ext cx="32004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mensioneX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servlet “multiplaye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4480" y="2057400"/>
            <a:ext cx="912600" cy="1371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2057400"/>
            <a:ext cx="914400" cy="1371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aratteristich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ruibilità via web (niente da scaric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Basato su tecnologia standard del we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uoni/Mu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cripting in linguaggio VisualBasic l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sting gratuito 24/7 (</a:t>
            </a: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www.gamesclan.i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isibilità immediata (+13,000 visite set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sercitazione 0.1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giro di p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llegarsi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www.dimensionex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tali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nline G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der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315200" y="3962520"/>
            <a:ext cx="22096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Ambiente di Lavoro - strumenti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rver DimensioneX (Java+Tomcat+Dim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editor di testo (Text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veloper’s Reference (PD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pz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 gestore immagini (ACDS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 editor grafico (Paint Shop Pro+Anim P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90640" y="1900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ome si installa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caricare da </a:t>
            </a: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www.dimensionex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guire le istruzio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adme.PD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stallation Manual (online, WI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Ambiente di Lavoro - cartell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1900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8115480" cy="3922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24160" y="2637000"/>
            <a:ext cx="865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3860640"/>
            <a:ext cx="1081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0520" y="4653000"/>
            <a:ext cx="865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13240" y="2781360"/>
            <a:ext cx="865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0520" y="4005360"/>
            <a:ext cx="865080" cy="360360"/>
          </a:xfrm>
          <a:prstGeom prst="rect">
            <a:avLst/>
          </a:prstGeom>
          <a:noFill/>
          <a:ln w="381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5T10:10:58Z</dcterms:created>
  <dc:creator>Cristiano Leoni</dc:creator>
  <dc:description/>
  <cp:keywords/>
  <dc:language>en-US</dc:language>
  <cp:lastModifiedBy>Cris &amp; Tata</cp:lastModifiedBy>
  <cp:lastPrinted>1998-11-02T16:35:46Z</cp:lastPrinted>
  <dcterms:modified xsi:type="dcterms:W3CDTF">2006-08-17T13:47:03Z</dcterms:modified>
  <cp:revision>63</cp:revision>
  <dc:subject/>
  <dc:title>Presentazione di PowerPoint</dc:title>
</cp:coreProperties>
</file>