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1D7-36FD-40EC-A95E-AD80AB44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F71-352F-426E-B916-F01AF016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163-3AFE-41A1-85CC-885E5933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E53-E42C-463F-B6B9-CCE8822F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C62D-91AE-492C-B1D9-B7C347F8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7404-6B61-4EF2-9F6B-35534F74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3B37-DEA6-40CA-8168-C2EAB9BD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926B-C322-4EDE-80B5-50D6087D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F87A-12CF-4B80-831D-7AFF87CB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23800" y="259920"/>
            <a:ext cx="813420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B77F-6279-4B56-AFC1-02E6907C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2B31-96E5-42C1-9947-62CF2D69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88F-F77D-45EB-9F60-F9D8CF39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7F4E-B61C-40AA-B3B2-0EBD98AF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BC8D-1F85-47BB-A5C8-937260EE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E42A-6041-4C75-87CD-569E9090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866B-E2CD-46E1-BA2D-1D08F112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ADFB-8BE7-4195-AC29-B5ADD80B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2C2-B0EF-4352-A22F-0797BD43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645-9D43-44FA-BE33-D8D24556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D8F-CE14-4698-95A1-A2C4E380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23800" y="259920"/>
            <a:ext cx="813420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252-71D1-4938-A106-359D68B1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1F1-CD0D-4A32-B64D-82FAEE8F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B91-493F-4F74-B470-434A564D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8E8-C26D-458C-9420-088BBE18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6120" cy="1484280"/>
            <a:chOff x="0" y="0"/>
            <a:chExt cx="9906120" cy="14842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352520" cy="148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08160" y="0"/>
              <a:ext cx="8697960" cy="1484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128520" y="189000"/>
              <a:ext cx="1208160" cy="120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dimensionex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B19971-46FE-458E-820B-F1536151C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6219720"/>
            <a:ext cx="9906120" cy="307080"/>
            <a:chOff x="0" y="6219720"/>
            <a:chExt cx="9906120" cy="307080"/>
          </a:xfrm>
        </p:grpSpPr>
        <p:sp>
          <p:nvSpPr>
            <p:cNvPr id="10" name=""/>
            <p:cNvSpPr/>
            <p:nvPr/>
          </p:nvSpPr>
          <p:spPr>
            <a:xfrm>
              <a:off x="0" y="6237360"/>
              <a:ext cx="990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1120" y="6219720"/>
              <a:ext cx="20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www.dimensionex.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DCF237-E0ED-418E-AE3C-305B39333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61760" y="17521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745320" y="2046240"/>
          <a:ext cx="2855880" cy="25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45320" y="2046240"/>
                    <a:ext cx="285588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"/>
          <p:cNvGrpSpPr/>
          <p:nvPr/>
        </p:nvGrpSpPr>
        <p:grpSpPr>
          <a:xfrm>
            <a:off x="0" y="0"/>
            <a:ext cx="9906120" cy="1484280"/>
            <a:chOff x="0" y="0"/>
            <a:chExt cx="9906120" cy="1484280"/>
          </a:xfrm>
        </p:grpSpPr>
        <p:sp>
          <p:nvSpPr>
            <p:cNvPr id="55" name=""/>
            <p:cNvSpPr/>
            <p:nvPr/>
          </p:nvSpPr>
          <p:spPr>
            <a:xfrm>
              <a:off x="0" y="0"/>
              <a:ext cx="1352520" cy="148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08160" y="0"/>
              <a:ext cx="8697960" cy="1484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128520" y="189000"/>
              <a:ext cx="12081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0" y="6219720"/>
            <a:ext cx="9906120" cy="307080"/>
            <a:chOff x="0" y="6219720"/>
            <a:chExt cx="9906120" cy="307080"/>
          </a:xfrm>
        </p:grpSpPr>
        <p:sp>
          <p:nvSpPr>
            <p:cNvPr id="59" name=""/>
            <p:cNvSpPr/>
            <p:nvPr/>
          </p:nvSpPr>
          <p:spPr>
            <a:xfrm>
              <a:off x="0" y="6237360"/>
              <a:ext cx="990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1120" y="6219720"/>
              <a:ext cx="20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www.dimensionex.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17521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 Black"/>
              </a:rPr>
              <a:t>2 – Scripting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556236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v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lementi sul linguagg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strutti di controllo flu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arametri implic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venti di mov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rientarsi nella documen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ray e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5181480"/>
          <a:ext cx="1143000" cy="11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181480"/>
                    <a:ext cx="114300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539720" y="189000"/>
            <a:ext cx="836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Corso Multiplayer</a:t>
            </a:r>
            <a:br>
              <a:rPr sz="3600"/>
            </a:br>
            <a:r>
              <a:rPr b="0" lang="it-IT" sz="2400" spc="-1" strike="noStrike">
                <a:solidFill>
                  <a:srgbClr val="000099"/>
                </a:solidFill>
                <a:latin typeface="Arial Black"/>
              </a:rPr>
              <a:t>Applicazioni Multimediali Multiplayer su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Speak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pea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[da,][dest,] frase [, frase…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fault è $OW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fault è $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e ci sono più frasi vengono stampate in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Speak da così…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CRIP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VENT 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tizio.on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Lucida Console"/>
              </a:rPr>
              <a:t>Speak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$OWNER,$AGENT,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“Ehi cos’hai da guardare?", “Lasciami in pace!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ND_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…</a:t>
            </a: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a così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CRIP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VENT 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tizio.on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Lucida Console"/>
              </a:rPr>
              <a:t>Speak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“Ehi cos’hai da guardare?", “Lasciami in pace!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ND_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Valori predefiniti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Y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(Voce di sistema)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sare in “d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$WORL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(Tutti i giocatori connessi al gio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sare in “de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EVENTO onLook Esempio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CRIP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VENT 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tizio.on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Lucida Console"/>
              </a:rPr>
              <a:t>Speak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SYS,$WORLD,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“Il giocatore “ + $AGENT + “ guarda “ + $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ND_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Object Model di CHARACTERS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sare il punto . per fare riferimento a una proprie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ersona.nam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Nome della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ersona.container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ove si trova la persona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(ogget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ersona.container.id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(id della stanz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ersona.container.name (nome della stanz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Print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[dest,] Che cosa [, che cosa…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int “In questa stanza c’è poca luc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int “OWNER=“ + $OWNER + “ AGENT= “ + $AGENT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 “ TARGET=“ + $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Assegnazione – ricordare un valore 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ompleanno = “26 Lugli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Print Comple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26 Lug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If .. Else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(condizi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str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Times New Roman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imes New Roman"/>
              </a:rPr>
              <a:t>Istr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nd_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Niente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nd_If e non End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RndInt(N)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rae un numero a caso da 1 a N e lo restituis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EVENTO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ogni cosa che succede corrisponde un EV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ogni EVENTO viene generata una chia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ogni chiamata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 gli corrisponde del cod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questo viene ESEGU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If .. Else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it-IT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Courier New"/>
              </a:rPr>
              <a:t>RndInt(2)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 “PARI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it-IT" sz="2800" spc="-1" strike="noStrike">
                <a:solidFill>
                  <a:srgbClr val="000000"/>
                </a:solidFill>
                <a:latin typeface="Courier New"/>
              </a:rPr>
              <a:t> “DISPARI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urier New"/>
              </a:rPr>
              <a:t>End_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EVENT Model: persona.onHear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3390840" y="1866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32520" y="4437000"/>
            <a:ext cx="17287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9240" y="2708280"/>
            <a:ext cx="1289160" cy="1809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075040" y="4365720"/>
            <a:ext cx="17269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89240" y="2060640"/>
            <a:ext cx="1944720" cy="720720"/>
          </a:xfrm>
          <a:prstGeom prst="wedgeRoundRectCallout">
            <a:avLst>
              <a:gd name="adj1" fmla="val -72532"/>
              <a:gd name="adj2" fmla="val 83481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89240" y="1628640"/>
            <a:ext cx="17290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321600" y="270828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rot="4646400">
            <a:off x="5960160" y="1773720"/>
            <a:ext cx="1152360" cy="719280"/>
          </a:xfrm>
          <a:prstGeom prst="rightArrow">
            <a:avLst>
              <a:gd name="adj1" fmla="val 50000"/>
              <a:gd name="adj2" fmla="val 40053"/>
            </a:avLst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Stampare i parametri impliciti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int “OWNER=“ + $OWNER + “ AGENT= “ + $AGENT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+ “ TARGET=“ + $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Vedere il log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artella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il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ebug#.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# = numero dello slot us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NB.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Se non funziona rivedere impostazion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ebugT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 nel file worldnav#.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Eco di quanto detto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VENT persona.onH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pea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$OWNER,$AGENT,”Mi hai detto: “ + $TARGET + “, ma che significa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ND_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7113600" y="1915920"/>
            <a:ext cx="4895640" cy="3818160"/>
            <a:chOff x="7113600" y="1915920"/>
            <a:chExt cx="4895640" cy="3818160"/>
          </a:xfrm>
        </p:grpSpPr>
        <p:sp>
          <p:nvSpPr>
            <p:cNvPr id="168" name=""/>
            <p:cNvSpPr/>
            <p:nvPr/>
          </p:nvSpPr>
          <p:spPr>
            <a:xfrm>
              <a:off x="7113600" y="1916280"/>
              <a:ext cx="4895640" cy="381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113600" y="4292640"/>
              <a:ext cx="1800000" cy="14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8913600" y="1915920"/>
              <a:ext cx="0" cy="23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13600" y="4292640"/>
              <a:ext cx="30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EVENT Model: stanza.onLoos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3" name=""/>
          <p:cNvSpPr/>
          <p:nvPr/>
        </p:nvSpPr>
        <p:spPr>
          <a:xfrm>
            <a:off x="3390840" y="1866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05600" y="2781360"/>
            <a:ext cx="1295280" cy="16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281240" y="1915920"/>
            <a:ext cx="4895640" cy="3818160"/>
            <a:chOff x="1281240" y="1915920"/>
            <a:chExt cx="4895640" cy="3818160"/>
          </a:xfrm>
        </p:grpSpPr>
        <p:sp>
          <p:nvSpPr>
            <p:cNvPr id="176" name=""/>
            <p:cNvSpPr/>
            <p:nvPr/>
          </p:nvSpPr>
          <p:spPr>
            <a:xfrm>
              <a:off x="1281240" y="1916280"/>
              <a:ext cx="4895640" cy="381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281240" y="4292640"/>
              <a:ext cx="1800000" cy="14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081240" y="1915920"/>
              <a:ext cx="0" cy="23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81240" y="4292640"/>
              <a:ext cx="30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641600" y="4869000"/>
            <a:ext cx="17269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21240" y="2637000"/>
            <a:ext cx="1289160" cy="1809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297240" y="3789360"/>
            <a:ext cx="17287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61240" y="3933720"/>
            <a:ext cx="17287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7113600" y="1915920"/>
            <a:ext cx="4895640" cy="3818160"/>
            <a:chOff x="7113600" y="1915920"/>
            <a:chExt cx="4895640" cy="3818160"/>
          </a:xfrm>
        </p:grpSpPr>
        <p:sp>
          <p:nvSpPr>
            <p:cNvPr id="185" name=""/>
            <p:cNvSpPr/>
            <p:nvPr/>
          </p:nvSpPr>
          <p:spPr>
            <a:xfrm>
              <a:off x="7113600" y="1916280"/>
              <a:ext cx="4895640" cy="381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113600" y="4292640"/>
              <a:ext cx="1800000" cy="14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913600" y="1915920"/>
              <a:ext cx="0" cy="23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913600" y="4292640"/>
              <a:ext cx="30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EVENT Model: persona.onExi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3390840" y="1866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53240" y="2781360"/>
            <a:ext cx="1295280" cy="16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81240" y="1915920"/>
            <a:ext cx="4895640" cy="3818160"/>
            <a:chOff x="1281240" y="1915920"/>
            <a:chExt cx="4895640" cy="3818160"/>
          </a:xfrm>
        </p:grpSpPr>
        <p:sp>
          <p:nvSpPr>
            <p:cNvPr id="193" name=""/>
            <p:cNvSpPr/>
            <p:nvPr/>
          </p:nvSpPr>
          <p:spPr>
            <a:xfrm>
              <a:off x="1281240" y="1916280"/>
              <a:ext cx="4895640" cy="381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281240" y="4292640"/>
              <a:ext cx="1800000" cy="14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081240" y="1915920"/>
              <a:ext cx="0" cy="23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81240" y="4292640"/>
              <a:ext cx="30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240160" y="2060640"/>
            <a:ext cx="17290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459400" y="2637000"/>
            <a:ext cx="1287360" cy="1809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170320" y="4221000"/>
            <a:ext cx="1727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0520" y="4869000"/>
            <a:ext cx="17287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7113600" y="1915920"/>
            <a:ext cx="4895640" cy="3818160"/>
            <a:chOff x="7113600" y="1915920"/>
            <a:chExt cx="4895640" cy="3818160"/>
          </a:xfrm>
        </p:grpSpPr>
        <p:sp>
          <p:nvSpPr>
            <p:cNvPr id="202" name=""/>
            <p:cNvSpPr/>
            <p:nvPr/>
          </p:nvSpPr>
          <p:spPr>
            <a:xfrm>
              <a:off x="7113600" y="1916280"/>
              <a:ext cx="4895640" cy="381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113600" y="4292640"/>
              <a:ext cx="1800000" cy="14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913600" y="1915920"/>
              <a:ext cx="0" cy="23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913600" y="4292640"/>
              <a:ext cx="30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EVENT Model: persona.onEnter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07" name=""/>
          <p:cNvSpPr/>
          <p:nvPr/>
        </p:nvSpPr>
        <p:spPr>
          <a:xfrm>
            <a:off x="3390840" y="1866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53240" y="2781360"/>
            <a:ext cx="1295280" cy="16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81240" y="1915920"/>
            <a:ext cx="4895640" cy="3818160"/>
            <a:chOff x="1281240" y="1915920"/>
            <a:chExt cx="4895640" cy="3818160"/>
          </a:xfrm>
        </p:grpSpPr>
        <p:sp>
          <p:nvSpPr>
            <p:cNvPr id="210" name=""/>
            <p:cNvSpPr/>
            <p:nvPr/>
          </p:nvSpPr>
          <p:spPr>
            <a:xfrm>
              <a:off x="1281240" y="1916280"/>
              <a:ext cx="4895640" cy="381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281240" y="4292640"/>
              <a:ext cx="1800000" cy="14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081240" y="1915920"/>
              <a:ext cx="0" cy="23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1240" y="4292640"/>
              <a:ext cx="30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240160" y="2060640"/>
            <a:ext cx="17290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459400" y="2637000"/>
            <a:ext cx="1287360" cy="1809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170320" y="4221000"/>
            <a:ext cx="1727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61240" y="4724280"/>
            <a:ext cx="17287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7113600" y="1915920"/>
            <a:ext cx="4895640" cy="3818160"/>
            <a:chOff x="7113600" y="1915920"/>
            <a:chExt cx="4895640" cy="3818160"/>
          </a:xfrm>
        </p:grpSpPr>
        <p:sp>
          <p:nvSpPr>
            <p:cNvPr id="219" name=""/>
            <p:cNvSpPr/>
            <p:nvPr/>
          </p:nvSpPr>
          <p:spPr>
            <a:xfrm>
              <a:off x="7113600" y="1916280"/>
              <a:ext cx="4895640" cy="381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7113600" y="4292640"/>
              <a:ext cx="1800000" cy="14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8913600" y="1915920"/>
              <a:ext cx="0" cy="23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913600" y="4292640"/>
              <a:ext cx="30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Arial Black"/>
              </a:rPr>
              <a:t>EVENT Model: stanza.onReceive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3390840" y="1866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53240" y="2781360"/>
            <a:ext cx="1295280" cy="165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81240" y="1915920"/>
            <a:ext cx="4895640" cy="3818160"/>
            <a:chOff x="1281240" y="1915920"/>
            <a:chExt cx="4895640" cy="3818160"/>
          </a:xfrm>
        </p:grpSpPr>
        <p:sp>
          <p:nvSpPr>
            <p:cNvPr id="227" name=""/>
            <p:cNvSpPr/>
            <p:nvPr/>
          </p:nvSpPr>
          <p:spPr>
            <a:xfrm>
              <a:off x="1281240" y="1916280"/>
              <a:ext cx="4895640" cy="381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281240" y="4292640"/>
              <a:ext cx="1800000" cy="14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081240" y="1915920"/>
              <a:ext cx="0" cy="23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81240" y="4292640"/>
              <a:ext cx="302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7616880" y="4869000"/>
            <a:ext cx="17287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459400" y="2637000"/>
            <a:ext cx="1287360" cy="1809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097600" y="1989000"/>
            <a:ext cx="17287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AGENT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70320" y="4292640"/>
            <a:ext cx="1727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Arial Black"/>
              </a:rPr>
              <a:t>Consultare la Developers Reference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me funziona Dimension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figur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arte Design-time (DX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arte Run-Time (SmallBas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bject Model degli ogge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venti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unzioni disponibil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struzioni disponib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EVENTO esempi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ll’inizio del gio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vento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on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e esist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onStar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viene esegu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25480" y="2286000"/>
            <a:ext cx="7429680" cy="2362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20840" y="2971800"/>
            <a:ext cx="1650960" cy="3049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20840" y="3581280"/>
            <a:ext cx="165096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ia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8" idx="2"/>
            <a:endCxn id="239" idx="0"/>
          </p:cNvCxnSpPr>
          <p:nvPr/>
        </p:nvCxnSpPr>
        <p:spPr>
          <a:xfrm>
            <a:off x="2145960" y="3276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2971800" y="2971800"/>
            <a:ext cx="1650960" cy="3049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3581280"/>
            <a:ext cx="165096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hol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1" idx="2"/>
            <a:endCxn id="242" idx="0"/>
          </p:cNvCxnSpPr>
          <p:nvPr/>
        </p:nvCxnSpPr>
        <p:spPr>
          <a:xfrm>
            <a:off x="3796920" y="3276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4622760" y="2971800"/>
            <a:ext cx="1650960" cy="3049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22760" y="3581280"/>
            <a:ext cx="165096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44" idx="2"/>
            <a:endCxn id="245" idx="0"/>
          </p:cNvCxnSpPr>
          <p:nvPr/>
        </p:nvCxnSpPr>
        <p:spPr>
          <a:xfrm>
            <a:off x="5447880" y="3276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6273720" y="2971800"/>
            <a:ext cx="1650960" cy="3049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73720" y="3581280"/>
            <a:ext cx="165096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hell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7" idx="2"/>
            <a:endCxn id="248" idx="0"/>
          </p:cNvCxnSpPr>
          <p:nvPr/>
        </p:nvCxnSpPr>
        <p:spPr>
          <a:xfrm>
            <a:off x="7098840" y="32767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990720" y="2438280"/>
            <a:ext cx="140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rrSalu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Array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Array + RndInt(N)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rrSaluti = NewSet(“ciao,hola,hello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peak arrSaluti(RndInt(3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i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i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825480" y="2286000"/>
            <a:ext cx="7429320" cy="2362320"/>
            <a:chOff x="825480" y="2286000"/>
            <a:chExt cx="7429320" cy="2362320"/>
          </a:xfrm>
        </p:grpSpPr>
        <p:sp>
          <p:nvSpPr>
            <p:cNvPr id="255" name=""/>
            <p:cNvSpPr/>
            <p:nvPr/>
          </p:nvSpPr>
          <p:spPr>
            <a:xfrm>
              <a:off x="825480" y="2286000"/>
              <a:ext cx="7429320" cy="236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20480" y="2971800"/>
              <a:ext cx="16506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o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20480" y="3581280"/>
              <a:ext cx="16506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8" name=""/>
            <p:cNvCxnSpPr>
              <a:stCxn id="256" idx="2"/>
              <a:endCxn id="257" idx="0"/>
            </p:cNvCxnSpPr>
            <p:nvPr/>
          </p:nvCxnSpPr>
          <p:spPr>
            <a:xfrm>
              <a:off x="2145600" y="32767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9" name=""/>
            <p:cNvSpPr/>
            <p:nvPr/>
          </p:nvSpPr>
          <p:spPr>
            <a:xfrm>
              <a:off x="2971440" y="2971800"/>
              <a:ext cx="16506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r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71440" y="3581280"/>
              <a:ext cx="16506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59" idx="2"/>
              <a:endCxn id="260" idx="0"/>
            </p:cNvCxnSpPr>
            <p:nvPr/>
          </p:nvCxnSpPr>
          <p:spPr>
            <a:xfrm>
              <a:off x="3796920" y="32767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622400" y="2971800"/>
              <a:ext cx="165096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scro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22400" y="3581280"/>
              <a:ext cx="1650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"/>
            <p:cNvCxnSpPr>
              <a:stCxn id="262" idx="2"/>
              <a:endCxn id="263" idx="0"/>
            </p:cNvCxnSpPr>
            <p:nvPr/>
          </p:nvCxnSpPr>
          <p:spPr>
            <a:xfrm>
              <a:off x="5447880" y="32767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5" name=""/>
            <p:cNvSpPr/>
            <p:nvPr/>
          </p:nvSpPr>
          <p:spPr>
            <a:xfrm>
              <a:off x="6273720" y="2971800"/>
              <a:ext cx="1650600" cy="304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swo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73720" y="3581280"/>
              <a:ext cx="16506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5" idx="2"/>
              <a:endCxn id="266" idx="0"/>
            </p:cNvCxnSpPr>
            <p:nvPr/>
          </p:nvCxnSpPr>
          <p:spPr>
            <a:xfrm>
              <a:off x="7098480" y="3276720"/>
              <a:ext cx="10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"/>
            <p:cNvSpPr/>
            <p:nvPr/>
          </p:nvSpPr>
          <p:spPr>
            <a:xfrm>
              <a:off x="990360" y="2438280"/>
              <a:ext cx="2641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setOgget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5117760" y="3657600"/>
              <a:ext cx="5778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466800" y="3657600"/>
              <a:ext cx="5778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6851160" y="3657600"/>
              <a:ext cx="5778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4"/>
            <a:stretch/>
          </p:blipFill>
          <p:spPr>
            <a:xfrm>
              <a:off x="1980720" y="3657600"/>
              <a:ext cx="414360" cy="55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SE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For Each Next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stru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ttenzione a set e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For Each Next + SE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“personaggi presenti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or Each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In </a:t>
            </a:r>
            <a:r>
              <a:rPr b="1" i="1" lang="it-IT" sz="2400" spc="-1" strike="noStrike">
                <a:solidFill>
                  <a:srgbClr val="000000"/>
                </a:solidFill>
                <a:latin typeface="Courier New"/>
              </a:rPr>
              <a:t>getCharactersIn</a:t>
            </a:r>
            <a:r>
              <a:rPr b="0" i="1" lang="it-IT" sz="2400" spc="-1" strike="noStrike">
                <a:solidFill>
                  <a:srgbClr val="000000"/>
                </a:solidFill>
                <a:latin typeface="Courier New"/>
              </a:rPr>
              <a:t>(spiagg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.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Riassunto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v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lementi sul linguag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strutti di controllo flu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arametri implic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venti di mov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rientarsi nella document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rray e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8307360" y="2362320"/>
          <a:ext cx="1141560" cy="110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7360" y="2362320"/>
                    <a:ext cx="1141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EVENT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id_evento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str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struzione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nd_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81600" y="2205000"/>
            <a:ext cx="3962520" cy="64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rificare Developers R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EVENT Esempio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onStart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all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PopMonster() ‘Mia funzione che fa apparire un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‘mostro in una stanza a ca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nd_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EVENTO esempi 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 personaggio viene guardato (clicca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catta l’evento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persona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.onL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e esiste, l’evento viene eseguito 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catta l’evento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onLook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gener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e esiste, l’evento viene esegu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Parametri impliciti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$OWNE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– chi possiede l’evento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quivale a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n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$AGEN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– chi ha iniziato l’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$TARGE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– terzo attore (a volte si usa, a volte 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EVENT Model: persona.onLook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3390840" y="1866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32520" y="4437000"/>
            <a:ext cx="17287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9240" y="2708280"/>
            <a:ext cx="1289160" cy="1809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075040" y="4365720"/>
            <a:ext cx="172692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$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21600" y="270828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rot="4646400">
            <a:off x="5960160" y="1773720"/>
            <a:ext cx="1152360" cy="719280"/>
          </a:xfrm>
          <a:prstGeom prst="rightArrow">
            <a:avLst>
              <a:gd name="adj1" fmla="val 50000"/>
              <a:gd name="adj2" fmla="val 40053"/>
            </a:avLst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440160" y="2923920"/>
            <a:ext cx="3025800" cy="7308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EVENTO onLook Esempio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CRIP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VENT 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tizio.on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Lucida Console"/>
              </a:rPr>
              <a:t>Speak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$OWNER,$AGENT,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“Ehi cos’hai da guardare?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ND_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5T10:10:58Z</dcterms:created>
  <dc:creator>Cristiano Leoni</dc:creator>
  <dc:description/>
  <cp:keywords/>
  <dc:language>en-US</dc:language>
  <cp:lastModifiedBy>Cris &amp; Tata</cp:lastModifiedBy>
  <cp:lastPrinted>1998-11-02T16:35:46Z</cp:lastPrinted>
  <dcterms:modified xsi:type="dcterms:W3CDTF">2006-08-17T13:57:31Z</dcterms:modified>
  <cp:revision>82</cp:revision>
  <dc:subject/>
  <dc:title>Presentazione di PowerPoint</dc:title>
</cp:coreProperties>
</file>